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6D56-56F9-4124-8271-BCC188CD244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2AD8-754E-44C5-B73F-0968BECB508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1DA4-9784-48E6-83AF-E60DC1920ED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93F-4912-4F2A-994F-BB7E8A64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8BE-783B-41BB-A54E-1F3006DD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A75-F813-4277-9044-FE621845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CFC-0C60-4005-93C3-FE9B112E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E90-4835-4C43-B93B-51228578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3ED-5FF9-4B7C-986C-D7F90D53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453-7BC9-42A9-8BA4-2C825A58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8E7-0C5F-4DC3-9380-4FA7491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2CE-2A5E-4CF0-B8B6-8FCE9B5C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384-AD7A-4D3E-9864-37A7542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015-04BA-493B-B1D7-148F5FA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4AD-3CBE-43D5-8286-80EACC40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818B-3E51-47C2-B4FB-6750BA45DE8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Ingres%2C_Napoleon_on_his_Imperial_thron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0. S.XIX. La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Naturaleza, idea, nación y recha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Archivo:Eugène Delacroix - La liberté guidant le peuple.jpg"/>
          <p:cNvPicPr/>
          <p:nvPr/>
        </p:nvPicPr>
        <p:blipFill>
          <a:blip r:embed="rId1"/>
          <a:stretch/>
        </p:blipFill>
        <p:spPr>
          <a:xfrm>
            <a:off x="1714680" y="857160"/>
            <a:ext cx="7200720" cy="570564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0" y="48578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.Delacroix (1798-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ertad guiando  al pueblo 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arrakis.es/~edual/FRIEDRICH.JPG"/>
          <p:cNvPicPr/>
          <p:nvPr/>
        </p:nvPicPr>
        <p:blipFill>
          <a:blip r:embed="rId1"/>
          <a:stretch/>
        </p:blipFill>
        <p:spPr>
          <a:xfrm>
            <a:off x="4486320" y="285840"/>
            <a:ext cx="4228920" cy="534348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428760" y="55008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minante sobre el Mar Nebu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spar David Friedrich (1774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fotos.org/galeria/data/572/William-Turner-Light-and-Colou.jpg"/>
          <p:cNvPicPr/>
          <p:nvPr/>
        </p:nvPicPr>
        <p:blipFill>
          <a:blip r:embed="rId1"/>
          <a:stretch/>
        </p:blipFill>
        <p:spPr>
          <a:xfrm>
            <a:off x="3357720" y="299880"/>
            <a:ext cx="5352840" cy="5343840"/>
          </a:xfrm>
          <a:prstGeom prst="rect">
            <a:avLst/>
          </a:prstGeom>
          <a:ln w="0">
            <a:noFill/>
          </a:ln>
        </p:spPr>
      </p:pic>
      <p:sp>
        <p:nvSpPr>
          <p:cNvPr id="94" name="4 CuadroTexto"/>
          <p:cNvSpPr/>
          <p:nvPr/>
        </p:nvSpPr>
        <p:spPr>
          <a:xfrm>
            <a:off x="428760" y="407196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ning after the Deluge - Moses Writing the Book of Genesis. 1843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iam Turner(1775-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Título"/>
          <p:cNvSpPr/>
          <p:nvPr/>
        </p:nvSpPr>
        <p:spPr>
          <a:xfrm>
            <a:off x="214200" y="2858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4 CuadroTexto"/>
          <p:cNvSpPr/>
          <p:nvPr/>
        </p:nvSpPr>
        <p:spPr>
          <a:xfrm>
            <a:off x="428760" y="5773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íbal cruzando los Alpes, Tormenta de nie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sindromedestendhal.files.wordpress.com/2008/01/tormenta-de-nieve-turner.jpg"/>
          <p:cNvPicPr/>
          <p:nvPr/>
        </p:nvPicPr>
        <p:blipFill>
          <a:blip r:embed="rId1"/>
          <a:stretch/>
        </p:blipFill>
        <p:spPr>
          <a:xfrm>
            <a:off x="1095480" y="28584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Ofelia Millais"/>
          <p:cNvPicPr/>
          <p:nvPr/>
        </p:nvPicPr>
        <p:blipFill>
          <a:blip r:embed="rId1"/>
          <a:stretch/>
        </p:blipFill>
        <p:spPr>
          <a:xfrm>
            <a:off x="1143000" y="500040"/>
            <a:ext cx="7620120" cy="5353200"/>
          </a:xfrm>
          <a:prstGeom prst="rect">
            <a:avLst/>
          </a:prstGeom>
          <a:ln w="0">
            <a:noFill/>
          </a:ln>
        </p:spPr>
      </p:pic>
      <p:sp>
        <p:nvSpPr>
          <p:cNvPr id="103" name="5 CuadroTexto"/>
          <p:cNvSpPr/>
          <p:nvPr/>
        </p:nvSpPr>
        <p:spPr>
          <a:xfrm>
            <a:off x="357120" y="5929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felia muerta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ohn Everett Millais (1829-18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428760" y="-7128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reproarte.com/files/images/R/rossetti_dante_gabriel/0133-0394_die_ankuendigung.jpg"/>
          <p:cNvPicPr/>
          <p:nvPr/>
        </p:nvPicPr>
        <p:blipFill>
          <a:blip r:embed="rId1"/>
          <a:stretch/>
        </p:blipFill>
        <p:spPr>
          <a:xfrm>
            <a:off x="5286240" y="642960"/>
            <a:ext cx="3367080" cy="588636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428760" y="55008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Anunciación 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ante Gabriel Rossetti (1828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57120" y="428760"/>
            <a:ext cx="4857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[Millet Prints - The Gleaners]"/>
          <p:cNvPicPr/>
          <p:nvPr/>
        </p:nvPicPr>
        <p:blipFill>
          <a:blip r:embed="rId1"/>
          <a:stretch/>
        </p:blipFill>
        <p:spPr>
          <a:xfrm>
            <a:off x="2928960" y="843120"/>
            <a:ext cx="5715000" cy="4514760"/>
          </a:xfrm>
          <a:prstGeom prst="rect">
            <a:avLst/>
          </a:prstGeom>
          <a:ln w="0">
            <a:noFill/>
          </a:ln>
        </p:spPr>
      </p:pic>
      <p:sp>
        <p:nvSpPr>
          <p:cNvPr id="113" name="4 CuadroTexto"/>
          <p:cNvSpPr/>
          <p:nvPr/>
        </p:nvSpPr>
        <p:spPr>
          <a:xfrm>
            <a:off x="4287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5 CuadroTexto"/>
          <p:cNvSpPr/>
          <p:nvPr/>
        </p:nvSpPr>
        <p:spPr>
          <a:xfrm>
            <a:off x="500040" y="5237280"/>
            <a:ext cx="26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Espigadoras (18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ean François Millet ( 1814-18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428760" y="14292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Archivo:Atelier Nadar 35BoulevardDesCapucines 1860 Nadar.jpg"/>
          <p:cNvPicPr/>
          <p:nvPr/>
        </p:nvPicPr>
        <p:blipFill>
          <a:blip r:embed="rId1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7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Sentimi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artchive.com/artchive/b/blake/blake_great_red_dragon.jpg"/>
          <p:cNvPicPr/>
          <p:nvPr/>
        </p:nvPicPr>
        <p:blipFill>
          <a:blip r:embed="rId1"/>
          <a:stretch/>
        </p:blipFill>
        <p:spPr>
          <a:xfrm>
            <a:off x="4286160" y="285840"/>
            <a:ext cx="4453200" cy="574668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428760" y="521496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Gran Dragón Rojo y la Mujer vestida de Sol (18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William Blake (1757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ad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Archivo:Ingres, Napoleon on his Imperial thr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760" y="357120"/>
            <a:ext cx="352404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714240" y="4857840"/>
            <a:ext cx="21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D.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apoleón en su t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30 x 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upload.wikimedia.org/wikipedia/commons/e/e0/Berlin_Reichstag.jpg"/>
          <p:cNvPicPr/>
          <p:nvPr/>
        </p:nvPicPr>
        <p:blipFill>
          <a:blip r:embed="rId1"/>
          <a:stretch/>
        </p:blipFill>
        <p:spPr>
          <a:xfrm>
            <a:off x="714240" y="1428840"/>
            <a:ext cx="8015400" cy="414648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500040" y="56577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ichstag – Ber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upload.wikimedia.org/wikipedia/commons/3/3a/Reichstag_after_the_allied_bombing_of_Berlin.jpg"/>
          <p:cNvPicPr/>
          <p:nvPr/>
        </p:nvPicPr>
        <p:blipFill>
          <a:blip r:embed="rId1"/>
          <a:stretch/>
        </p:blipFill>
        <p:spPr>
          <a:xfrm>
            <a:off x="3357720" y="1000080"/>
            <a:ext cx="5314680" cy="534348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500040" y="5786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ichstag 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Archivo:Arc Triomphe.jpg"/>
          <p:cNvPicPr/>
          <p:nvPr/>
        </p:nvPicPr>
        <p:blipFill>
          <a:blip r:embed="rId1"/>
          <a:stretch/>
        </p:blipFill>
        <p:spPr>
          <a:xfrm>
            <a:off x="3429000" y="285840"/>
            <a:ext cx="52671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500040" y="57862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co de Triunfo (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Archivo:RomaAltarePatriaTramonto.jpg"/>
          <p:cNvPicPr/>
          <p:nvPr/>
        </p:nvPicPr>
        <p:blipFill>
          <a:blip r:embed="rId1"/>
          <a:stretch/>
        </p:blipFill>
        <p:spPr>
          <a:xfrm>
            <a:off x="1214280" y="714240"/>
            <a:ext cx="7620120" cy="505800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Homenaje a Vittorio Emmanuel II(18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commons/4/48/Westminster_palace.jpg"/>
          <p:cNvPicPr/>
          <p:nvPr/>
        </p:nvPicPr>
        <p:blipFill>
          <a:blip r:embed="rId1"/>
          <a:stretch/>
        </p:blipFill>
        <p:spPr>
          <a:xfrm>
            <a:off x="1143000" y="0"/>
            <a:ext cx="7745400" cy="580860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badía de Westminster(18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2:03:36Z</dcterms:created>
  <dc:creator>Usuario</dc:creator>
  <dc:description/>
  <dc:language>en-US</dc:language>
  <cp:lastModifiedBy>Usuario</cp:lastModifiedBy>
  <dcterms:modified xsi:type="dcterms:W3CDTF">2009-03-02T05:00:54Z</dcterms:modified>
  <cp:revision>20</cp:revision>
  <dc:subject/>
  <dc:title>Diapositiva 1</dc:title>
</cp:coreProperties>
</file>