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E3CC-48F4-48F7-8BAE-6EAFC14DC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0810-F17D-408F-866F-46ED31F78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C12F-C765-4026-AE99-2525DC4E6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E02A-AF07-4A72-8993-9327F2F1C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02C6-64D2-4ED6-9367-B736E27E6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66B2-9B2F-481A-B968-BC264C9AE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264F-645E-47A0-85EA-0FBF3A219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C68D-EAE9-4109-8BDC-7DC63A7DA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9DD3-D8ED-42F3-AE4D-AD908E439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EFBB-04CA-4EE3-A24C-D0A05C21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B94D-2E91-4A0E-980D-B72CE536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0F69-7BD2-40A1-A88F-62E8AFB0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13D1D-3275-4A82-B7C4-0670F2195695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7seYUntQxmg&amp;feature=related" TargetMode="External"/><Relationship Id="rId2" Type="http://schemas.openxmlformats.org/officeDocument/2006/relationships/hyperlink" Target="http://www.youtube.com/watch?v=7seYUntQxmg&amp;feature=related" TargetMode="External"/><Relationship Id="rId3" Type="http://schemas.openxmlformats.org/officeDocument/2006/relationships/hyperlink" Target="http://www.youtube.com/watch?v=7seYUntQxmg&amp;feature=related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P_v_0JoK4y4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</a:rPr>
              <a:t>12. Entrando al siglo X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898989"/>
                </a:solidFill>
                <a:latin typeface="Calibri"/>
              </a:rPr>
              <a:t>Entre sueños y manifies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 perro Andaluz, Luis Buñuel-Salvador Dalí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19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youtube.com/watch?v=7seYUntQxmg&amp;feature=rela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http://www.youtube.com/watch?v=qMi74Nh0Rwk&amp;feature=rela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rcRect l="10988" t="13671" r="6249" b="6250"/>
          <a:stretch/>
        </p:blipFill>
        <p:spPr>
          <a:xfrm>
            <a:off x="571680" y="285840"/>
            <a:ext cx="8072280" cy="5857920"/>
          </a:xfrm>
          <a:prstGeom prst="rect">
            <a:avLst/>
          </a:prstGeom>
          <a:ln w="0">
            <a:noFill/>
          </a:ln>
        </p:spPr>
      </p:pic>
      <p:sp>
        <p:nvSpPr>
          <p:cNvPr id="48" name="4 CuadroTexto"/>
          <p:cNvSpPr/>
          <p:nvPr/>
        </p:nvSpPr>
        <p:spPr>
          <a:xfrm>
            <a:off x="642960" y="621504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Construcción cinética, 19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http://upload.wikimedia.org/wikipedia/commons/8/8e/Intonarumori-vedut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5840" y="214200"/>
            <a:ext cx="3809880" cy="2610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4"/>
          <a:srcRect l="21972" t="26368" r="23829" b="13086"/>
          <a:stretch/>
        </p:blipFill>
        <p:spPr>
          <a:xfrm>
            <a:off x="3214800" y="1357200"/>
            <a:ext cx="5286240" cy="4429080"/>
          </a:xfrm>
          <a:prstGeom prst="rect">
            <a:avLst/>
          </a:prstGeom>
          <a:ln w="0">
            <a:noFill/>
          </a:ln>
        </p:spPr>
      </p:pic>
      <p:sp>
        <p:nvSpPr>
          <p:cNvPr id="53" name="4 CuadroTexto"/>
          <p:cNvSpPr/>
          <p:nvPr/>
        </p:nvSpPr>
        <p:spPr>
          <a:xfrm>
            <a:off x="285840" y="5715000"/>
            <a:ext cx="264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Giacomo Bal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Dinámica de Perro con collar, 19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http://upload.wikimedia.org/wikipedia/en/0/05/RroseSelavy.jpg"/>
          <p:cNvPicPr/>
          <p:nvPr/>
        </p:nvPicPr>
        <p:blipFill>
          <a:blip r:embed="rId2"/>
          <a:stretch/>
        </p:blipFill>
        <p:spPr>
          <a:xfrm>
            <a:off x="5072040" y="1785960"/>
            <a:ext cx="3390840" cy="4324320"/>
          </a:xfrm>
          <a:prstGeom prst="rect">
            <a:avLst/>
          </a:prstGeom>
          <a:ln w="0">
            <a:noFill/>
          </a:ln>
        </p:spPr>
      </p:pic>
      <p:sp>
        <p:nvSpPr>
          <p:cNvPr id="57" name="4 CuadroTexto"/>
          <p:cNvSpPr/>
          <p:nvPr/>
        </p:nvSpPr>
        <p:spPr>
          <a:xfrm>
            <a:off x="428760" y="4071960"/>
            <a:ext cx="2071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Marcel Duchamp com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Rose Selav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19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Fotografía de Joseph Stieglit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02:44:22Z</dcterms:created>
  <dc:creator>Usuario</dc:creator>
  <dc:description/>
  <dc:language>en-US</dc:language>
  <cp:lastModifiedBy>Usuario</cp:lastModifiedBy>
  <dcterms:modified xsi:type="dcterms:W3CDTF">2009-03-09T04:41:42Z</dcterms:modified>
  <cp:revision>13</cp:revision>
  <dc:subject/>
  <dc:title>Diapositiva 1</dc:title>
</cp:coreProperties>
</file>