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D3F-3383-4E42-98DA-7DC44A2F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E45-6BE3-4C9C-90F4-C44EC9E3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128-69F2-4F93-9E14-3D4EF371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576-24A0-4ED4-AFFA-BB156EB1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16D-5FCC-4B54-85C6-65C5B9E4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8E9-06CF-4659-B6BF-FA9E7182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8C7-5B2F-4BC6-9EA8-4777136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148-3F71-4064-8152-021A6600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065-AF89-4C5B-99D5-56C644A4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227-0D51-4909-9D69-3A25201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5C7-8CDC-4E76-A2DB-C23533E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D41-953D-434D-AD5F-C7C4C8B8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DF04-76ED-4FD6-98BD-66561963629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3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AAAAAAAAAAAAAbbbbbbbsssssssssssttttttttttrrrrraaaaaaaaccccccccctttttttttoooooooooo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Naum Gabo Linear Construction No. 1 1942-3"/>
          <p:cNvPicPr/>
          <p:nvPr/>
        </p:nvPicPr>
        <p:blipFill>
          <a:blip r:embed="rId1"/>
          <a:stretch/>
        </p:blipFill>
        <p:spPr>
          <a:xfrm>
            <a:off x="4214880" y="785880"/>
            <a:ext cx="4343400" cy="487656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185724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nstrucción linear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Archivo:TatlinMonument3int.jpg"/>
          <p:cNvPicPr/>
          <p:nvPr/>
        </p:nvPicPr>
        <p:blipFill>
          <a:blip r:embed="rId1"/>
          <a:stretch/>
        </p:blipFill>
        <p:spPr>
          <a:xfrm>
            <a:off x="4572000" y="785880"/>
            <a:ext cx="4143240" cy="561024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1857240" y="442908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umento a la III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428760" y="40719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L.H.O.O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www.mus.ulaval.ca/lacasse/cours/Seminaires/Oeuvre/Images/duchampLHOOQ.jpg"/>
          <p:cNvPicPr/>
          <p:nvPr/>
        </p:nvPicPr>
        <p:blipFill>
          <a:blip r:embed="rId1"/>
          <a:stretch/>
        </p:blipFill>
        <p:spPr>
          <a:xfrm>
            <a:off x="4429080" y="357120"/>
            <a:ext cx="41814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upload.wikimedia.org/wikipedia/commons/8/8e/Intonarumori-veduta.jpg"/>
          <p:cNvPicPr/>
          <p:nvPr/>
        </p:nvPicPr>
        <p:blipFill>
          <a:blip r:embed="rId1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57120" y="29289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igi Russ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cierto futu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ile:Einstein patentoffice.jpg"/>
          <p:cNvPicPr/>
          <p:nvPr/>
        </p:nvPicPr>
        <p:blipFill>
          <a:blip r:embed="rId1"/>
          <a:stretch/>
        </p:blipFill>
        <p:spPr>
          <a:xfrm>
            <a:off x="4500720" y="857160"/>
            <a:ext cx="437184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Archivo:Henri Bergson.jpg"/>
          <p:cNvPicPr/>
          <p:nvPr/>
        </p:nvPicPr>
        <p:blipFill>
          <a:blip r:embed="rId2"/>
          <a:stretch/>
        </p:blipFill>
        <p:spPr>
          <a:xfrm>
            <a:off x="214200" y="785880"/>
            <a:ext cx="38577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Naum Gabo Head No. 2 1916, enlarged version 1964"/>
          <p:cNvPicPr/>
          <p:nvPr/>
        </p:nvPicPr>
        <p:blipFill>
          <a:blip r:embed="rId1"/>
          <a:stretch/>
        </p:blipFill>
        <p:spPr>
          <a:xfrm>
            <a:off x="5572080" y="1143000"/>
            <a:ext cx="317196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3286080" y="5143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beza alar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Naum Gabo Model for `Constructed Torso' 1917, reassembled 1981"/>
          <p:cNvPicPr/>
          <p:nvPr/>
        </p:nvPicPr>
        <p:blipFill>
          <a:blip r:embed="rId1"/>
          <a:stretch/>
        </p:blipFill>
        <p:spPr>
          <a:xfrm>
            <a:off x="5072040" y="1214280"/>
            <a:ext cx="359100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2786040" y="47862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Naum Gabo Model for `Rotating Fountain' 1925, reassembled 1986"/>
          <p:cNvPicPr/>
          <p:nvPr/>
        </p:nvPicPr>
        <p:blipFill>
          <a:blip r:embed="rId1"/>
          <a:stretch/>
        </p:blipFill>
        <p:spPr>
          <a:xfrm>
            <a:off x="4714920" y="1214280"/>
            <a:ext cx="390528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2357280" y="51436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Naum Gabo Torsion 1928-36"/>
          <p:cNvPicPr/>
          <p:nvPr/>
        </p:nvPicPr>
        <p:blipFill>
          <a:blip r:embed="rId1"/>
          <a:stretch/>
        </p:blipFill>
        <p:spPr>
          <a:xfrm>
            <a:off x="4429080" y="571680"/>
            <a:ext cx="4143600" cy="487656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2071800" y="40719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12T04:21:15Z</dcterms:modified>
  <cp:revision>21</cp:revision>
  <dc:subject/>
  <dc:title>Diapositiva 1</dc:title>
</cp:coreProperties>
</file>