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9F98-855A-4AD6-ACE2-108E14353DE4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2D36-3127-4E7C-BD3F-DC21F80E1D9F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566D-E999-4E29-919E-3E363D107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F0EE-1B1F-43FD-99F0-23BD5D64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FACE-C90C-46CB-BCE0-855FC4FCC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595F-4EB7-4C0C-A18D-21A73C2C9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A380-956B-4C23-B55E-56CF1AA2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5AEA-0159-4EA6-97A3-025EB61B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D658-DD84-439F-B3BB-BF7A54B5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46C1-52A1-4C07-B4E7-5A20633F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2697-15B6-4261-897B-75B65DCB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223B-D467-4DC3-9D59-0376F875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9F84-9D71-4BAD-ADA4-CCF7837A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0B58-C2AA-4E60-9460-71C0E9F2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2112-3429-4A77-A91A-CEC79BF27FE0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rRUDS1xbNs&amp;feature=related" TargetMode="External"/><Relationship Id="rId2" Type="http://schemas.openxmlformats.org/officeDocument/2006/relationships/hyperlink" Target="http://www.youtube.com/watch?v=Ei6nJfXAuHQ&amp;NR=1" TargetMode="External"/><Relationship Id="rId3" Type="http://schemas.openxmlformats.org/officeDocument/2006/relationships/hyperlink" Target="http://www.youtube.com/watch?v=2cUEANKv964&amp;feature=PlayList&amp;p=8C644C38C1F33EC2&amp;index=1" TargetMode="External"/><Relationship Id="rId4" Type="http://schemas.openxmlformats.org/officeDocument/2006/relationships/hyperlink" Target="http://www.youtube.com/watch?v=zs5BBaNJ6mg" TargetMode="External"/><Relationship Id="rId5" Type="http://schemas.openxmlformats.org/officeDocument/2006/relationships/hyperlink" Target="http://www.youtube.com/watch?v=SWY3LjLw91Q&amp;feature=related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Q3S7_2tSZQ&amp;feature=PlayList&amp;p=511E0EE8412E0DC0&amp;index=19" TargetMode="External"/><Relationship Id="rId2" Type="http://schemas.openxmlformats.org/officeDocument/2006/relationships/hyperlink" Target="http://www.youtube.com/watch?v=sC9R3idwY5k" TargetMode="External"/><Relationship Id="rId3" Type="http://schemas.openxmlformats.org/officeDocument/2006/relationships/hyperlink" Target="http://www.youtube.com/watch?v=h0ebWlaFu58&amp;feature=PlayList&amp;p=933206BF46396165&amp;playnext=1&amp;playnext_from=PL&amp;index=6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La modernidad- Inic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dward Muybridge, Caballo, 187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UrRUDS1xbNs&amp;feature=rel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umiere, Regador reg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youtube.com/watch?v=Ei6nJfXAuHQ&amp;NR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umiere, Llegada de un tren, 189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youtube.com/watch?v=2cUEANKv964&amp;feature=PlayList&amp;p=8C644C38C1F33EC2&amp;index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Georges Melies, Conjuro , 189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youtube.com/watch?v=zs5BBaNJ6m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Georges Melies, 4 cortos inédi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youtube.com/watch?v=SWY3LjLw91Q&amp;feature=rel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El cine y la n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D.W. Griffith, Nacimiento de la Nación, 191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BQ3S7_2tSZQ&amp;feature=PlayList&amp;p=511E0EE8412E0DC0&amp;index=19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Lev Kuleshov, Por la Ley, 1927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youtube.com/watch?v=sC9R3idwY5k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Sergei Eisenstein, Octubre, 192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youtube.com/watch?v=h0ebWlaFu58&amp;feature=PlayList&amp;p=933206BF46396165&amp;playnext=1&amp;playnext_from=PL&amp;index=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Metrópolis, Fritz Lang, 192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http://www.youtube.com/watch?v=f-qS1OjBdG8&amp;feature=rela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Charles Chaplin, Modern Times, 193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http://www.youtube.com/watch?v=AvNQiF89Pek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Olimpia, Leny Riefenstahl, 193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http://www.youtube.com/watch?v=x6-0Cz73wwQ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Los bajos fon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Neorrealismo italia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http://www.youtube.com/watch?v=qb_9Dohtbm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4:42:30Z</dcterms:created>
  <dc:creator>Usuario</dc:creator>
  <dc:description/>
  <dc:language>en-US</dc:language>
  <cp:lastModifiedBy>Usuario</cp:lastModifiedBy>
  <dcterms:modified xsi:type="dcterms:W3CDTF">2009-03-26T06:14:12Z</dcterms:modified>
  <cp:revision>11</cp:revision>
  <dc:subject/>
  <dc:title>La modernidad</dc:title>
</cp:coreProperties>
</file>