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CF9E-0E24-4ED1-893F-DEB7C42992E1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A82A-DC60-4CEC-9793-48728B225C92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2A72-A2E5-4783-82B1-0F5A27B49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9C72-187D-4BE1-A0B0-303D9E25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3C1B-95C2-4BC3-BCC9-6E21E60B5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6CA8-E0A6-42B3-B8DA-6CD6EDC62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52C5-3EAB-416C-978F-918C83F1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3947-B3C6-4511-8DFE-0411B14A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83AE-3944-4B5A-9D00-0A29A1ED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319A-53AC-4562-BBB5-569B97E2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23AD-76E5-4D33-9A66-D4D115C3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DA0A-1FA4-4241-8703-850F9843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4E83-13B5-4E71-BB66-BB3CE6BE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1AB5-0BEB-4A6A-8F11-C4EDB4E0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F58F-132E-4A53-A71E-7EBF4B7876F0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rRUDS1xbNs&amp;feature=related" TargetMode="External"/><Relationship Id="rId2" Type="http://schemas.openxmlformats.org/officeDocument/2006/relationships/hyperlink" Target="http://www.youtube.com/watch?v=Ei6nJfXAuHQ&amp;NR=1" TargetMode="External"/><Relationship Id="rId3" Type="http://schemas.openxmlformats.org/officeDocument/2006/relationships/hyperlink" Target="http://www.youtube.com/watch?v=2cUEANKv964&amp;feature=PlayList&amp;p=8C644C38C1F33EC2&amp;index=1" TargetMode="External"/><Relationship Id="rId4" Type="http://schemas.openxmlformats.org/officeDocument/2006/relationships/hyperlink" Target="http://www.youtube.com/watch?v=zs5BBaNJ6mg" TargetMode="External"/><Relationship Id="rId5" Type="http://schemas.openxmlformats.org/officeDocument/2006/relationships/hyperlink" Target="http://www.youtube.com/watch?v=SWY3LjLw91Q&amp;feature=related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Q3S7_2tSZQ&amp;feature=PlayList&amp;p=511E0EE8412E0DC0&amp;index=19" TargetMode="External"/><Relationship Id="rId2" Type="http://schemas.openxmlformats.org/officeDocument/2006/relationships/hyperlink" Target="http://www.youtube.com/watch?v=sC9R3idwY5k" TargetMode="External"/><Relationship Id="rId3" Type="http://schemas.openxmlformats.org/officeDocument/2006/relationships/hyperlink" Target="http://www.youtube.com/watch?v=h0ebWlaFu58&amp;feature=PlayList&amp;p=933206BF46396165&amp;playnext=1&amp;playnext_from=PL&amp;index=6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La modernidad- Inic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dward Muybridge, Caballo, 187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UrRUDS1xbNs&amp;feature=rel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umiere, Regador reg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youtube.com/watch?v=Ei6nJfXAuHQ&amp;NR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umiere, Llegada de un tren, 189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youtube.com/watch?v=2cUEANKv964&amp;feature=PlayList&amp;p=8C644C38C1F33EC2&amp;index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Georges Melies, Conjuro , 189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youtube.com/watch?v=zs5BBaNJ6m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Georges Melies, 4 cortos inédi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youtube.com/watch?v=SWY3LjLw91Q&amp;feature=rel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El cine y la n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D.W. Griffith, Nacimiento de la Nación, 191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BQ3S7_2tSZQ&amp;feature=PlayList&amp;p=511E0EE8412E0DC0&amp;index=19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Lev Kuleshov, Por la Ley, 1927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youtube.com/watch?v=sC9R3idwY5k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Sergei Eisenstein, Octubre, 192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youtube.com/watch?v=h0ebWlaFu58&amp;feature=PlayList&amp;p=933206BF46396165&amp;playnext=1&amp;playnext_from=PL&amp;index=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Metrópolis, Fritz Lang, 192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http://www.youtube.com/watch?v=f-qS1OjBdG8&amp;feature=rela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Charles Chaplin, Modern Times, 193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http://www.youtube.com/watch?v=AvNQiF89Pek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Olimpia, Leny Riefenstahl, 193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http://www.youtube.com/watch?v=x6-0Cz73wwQ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Los bajos fon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Neorrealismo italia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http://www.youtube.com/watch?v=qb_9Dohtbm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4:42:30Z</dcterms:created>
  <dc:creator>Usuario</dc:creator>
  <dc:description/>
  <dc:language>en-US</dc:language>
  <cp:lastModifiedBy>Usuario</cp:lastModifiedBy>
  <dcterms:modified xsi:type="dcterms:W3CDTF">2009-03-26T06:14:12Z</dcterms:modified>
  <cp:revision>11</cp:revision>
  <dc:subject/>
  <dc:title>La modernidad</dc:title>
</cp:coreProperties>
</file>