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095-0513-4F97-A9E0-4C522113E25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CE9-E4A8-4D30-982D-90D9C9F2342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8695-EE8E-4E85-8298-C4E8700E6CA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1E8-5F4F-46BB-8090-25D63EDA165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6076-2FF3-4D6E-AF75-2A09B631D3C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61D-AA7F-4932-95EB-4D0E6D8EE8D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7078-5B05-41F1-A62F-0E9A120E1CA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1FF2-81AB-40CC-A07C-89CAB499C24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0A5E-8AA4-4810-926B-71F644139B7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CB1D-B629-4E02-B30F-59D2AF4F197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1A03-8EC0-42D6-A770-DB64053F4E9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364-2F0A-44AE-A13D-F02FBAE94B5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B8C-A1BD-462A-B67A-12617EC0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154-C1E6-486F-85C0-979E0B2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297-D8F2-45A1-B85B-E1FEC948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2D9-3BFA-487A-905B-65BB7DF9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4B3-B94A-4583-A481-AD2A5AB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15F-9A4F-4108-BB9D-34195E7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6F9-8015-4844-A859-F01F1020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F91-E67B-40DA-96C5-7DAB2D0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9A8-EE3A-48B9-BA2C-93B5F177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AF9-972A-4DA1-8589-9F727A2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1B9-3478-4EAC-93B6-31A1FAF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F8B-B0A2-463F-8976-74E5BBB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115-4D8E-46B1-9B69-42E26678EF6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6. West-earn-ea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a creación de occid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richardlong.org/images/images%20072/cscross.jpg"/>
          <p:cNvPicPr/>
          <p:nvPr/>
        </p:nvPicPr>
        <p:blipFill>
          <a:blip r:embed="rId2"/>
          <a:stretch/>
        </p:blipFill>
        <p:spPr>
          <a:xfrm>
            <a:off x="1857240" y="1214280"/>
            <a:ext cx="7115400" cy="476280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214200" y="538020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u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cottish National Gallery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Nacion.com"/>
          <p:cNvPicPr/>
          <p:nvPr/>
        </p:nvPicPr>
        <p:blipFill>
          <a:blip r:embed="rId2"/>
          <a:stretch/>
        </p:blipFill>
        <p:spPr>
          <a:xfrm>
            <a:off x="5000760" y="2714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5 CuadroTexto"/>
          <p:cNvSpPr/>
          <p:nvPr/>
        </p:nvSpPr>
        <p:spPr>
          <a:xfrm>
            <a:off x="1071720" y="49291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acu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nestidad – Arte 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56642" t="23124" r="10937" b="13128"/>
          <a:stretch/>
        </p:blipFill>
        <p:spPr>
          <a:xfrm>
            <a:off x="642960" y="857160"/>
            <a:ext cx="4714920" cy="579456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6072120" y="55720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. 1928-19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Joseph Beuys, 19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ehlt.flinders.edu.au/screen/guests/stelarc/students/amira.h/Joseph_Beuys.jpg"/>
          <p:cNvPicPr/>
          <p:nvPr/>
        </p:nvPicPr>
        <p:blipFill>
          <a:blip r:embed="rId2"/>
          <a:stretch/>
        </p:blipFill>
        <p:spPr>
          <a:xfrm>
            <a:off x="5643720" y="1500120"/>
            <a:ext cx="2971800" cy="40482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1214280" y="4143240"/>
            <a:ext cx="31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explicarle el arte a una lie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usseldorf, 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hawaii.edu/lruby/art359/IMAGES/ILIKEAM.GIF"/>
          <p:cNvPicPr/>
          <p:nvPr/>
        </p:nvPicPr>
        <p:blipFill>
          <a:blip r:embed="rId2"/>
          <a:stretch/>
        </p:blipFill>
        <p:spPr>
          <a:xfrm>
            <a:off x="2571840" y="1571760"/>
            <a:ext cx="619128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1214280" y="414324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 like Ame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 America Likes 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w york, 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htca.us.es/blogs/perezdelama/files/2008/10/hamilton.jpg"/>
          <p:cNvPicPr/>
          <p:nvPr/>
        </p:nvPicPr>
        <p:blipFill>
          <a:blip r:embed="rId2"/>
          <a:stretch/>
        </p:blipFill>
        <p:spPr>
          <a:xfrm>
            <a:off x="2828880" y="214200"/>
            <a:ext cx="6100920" cy="65008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214200" y="4143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Hamilton (U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ust what is it that makes today’s homes so different, so appeal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lichtensteinfoundation.org/images/3352.jpg"/>
          <p:cNvPicPr/>
          <p:nvPr/>
        </p:nvPicPr>
        <p:blipFill>
          <a:blip r:embed="rId2"/>
          <a:stretch/>
        </p:blipFill>
        <p:spPr>
          <a:xfrm>
            <a:off x="3929040" y="857160"/>
            <a:ext cx="47530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785880" y="4929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y Lich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jer llora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tudents.sbc.edu/kitchin04/artandexpression/war3%5b1%5d.jpg"/>
          <p:cNvPicPr/>
          <p:nvPr/>
        </p:nvPicPr>
        <p:blipFill>
          <a:blip r:embed="rId2"/>
          <a:stretch/>
        </p:blipFill>
        <p:spPr>
          <a:xfrm>
            <a:off x="2071800" y="196920"/>
            <a:ext cx="4348080" cy="65181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67867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pa Campb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mediabistro.com/unbeige/original/SPIRALJ.GIF"/>
          <p:cNvPicPr/>
          <p:nvPr/>
        </p:nvPicPr>
        <p:blipFill>
          <a:blip r:embed="rId2"/>
          <a:stretch/>
        </p:blipFill>
        <p:spPr>
          <a:xfrm>
            <a:off x="2357280" y="1714680"/>
            <a:ext cx="6191280" cy="406692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214200" y="428616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bert Smith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i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richardlong.org/images/3.jpg"/>
          <p:cNvPicPr/>
          <p:nvPr/>
        </p:nvPicPr>
        <p:blipFill>
          <a:blip r:embed="rId2"/>
          <a:stretch/>
        </p:blipFill>
        <p:spPr>
          <a:xfrm>
            <a:off x="4286160" y="2571840"/>
            <a:ext cx="3810240" cy="256212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714240" y="392904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inando una línea en Per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47:25Z</dcterms:created>
  <dc:creator>Carlos Rojas</dc:creator>
  <dc:description/>
  <dc:language>en-US</dc:language>
  <cp:lastModifiedBy>Carlos Rojas</cp:lastModifiedBy>
  <dcterms:modified xsi:type="dcterms:W3CDTF">2009-04-02T06:54:51Z</dcterms:modified>
  <cp:revision>14</cp:revision>
  <dc:subject/>
  <dc:title>Diapositiva 1</dc:title>
</cp:coreProperties>
</file>