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0CF9-6CEC-4DC2-9E91-6F63149A9AC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A260-99F7-4003-A74D-A17783B5959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735B-8B68-442F-A076-75B61F56600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F08B-8E0E-4FDB-B1AA-9932D0B98A7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3A0E-8CA9-41F9-8FDF-4B2054F6808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1548-0B5F-497E-AFC6-6797E768E59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42BE-5C9C-42A9-BF45-A2D3CC1DD20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E5A0-409B-4DB2-9788-7F1761FC2C6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A6BE-F93B-4E3E-82F2-4DE8145E8AF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A32F-DB6D-4C7F-A4A7-A8FAF64E7D3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B277-1D7A-41C6-AEBE-40C6BF2D365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21E-7A81-46F9-A004-BF1391FA2A8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117-1480-42FF-9DFD-8043757A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C9B-2C07-4DFB-8251-8D6D0F95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3D9-053E-4ADF-9FC7-FE5B9BA9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CA8-9EF4-45F5-96B2-A1E87E6A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A7E-2FDC-49E7-BBF5-046A0463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EDB-0C41-49F7-BA43-142CCE70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48B-3AF3-4AE5-96DC-49D2B627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C21-3CE7-4757-BDFD-01D389E6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429-4119-478C-8ED0-D05FD638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378-F254-4174-9163-F9FC98AB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044-8013-4312-8B03-44C14EF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03C-F99A-4DF1-B4FB-FA1063B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7637-03DC-4EF4-8E34-D08A4FA6EF6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6. West-earn-ea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a creación de occid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richardlong.org/images/images%20072/cscross.jpg"/>
          <p:cNvPicPr/>
          <p:nvPr/>
        </p:nvPicPr>
        <p:blipFill>
          <a:blip r:embed="rId2"/>
          <a:stretch/>
        </p:blipFill>
        <p:spPr>
          <a:xfrm>
            <a:off x="1857240" y="1214280"/>
            <a:ext cx="7115400" cy="476280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214200" y="538020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u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cottish National Gallery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Nacion.com"/>
          <p:cNvPicPr/>
          <p:nvPr/>
        </p:nvPicPr>
        <p:blipFill>
          <a:blip r:embed="rId2"/>
          <a:stretch/>
        </p:blipFill>
        <p:spPr>
          <a:xfrm>
            <a:off x="5000760" y="2714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5 CuadroTexto"/>
          <p:cNvSpPr/>
          <p:nvPr/>
        </p:nvSpPr>
        <p:spPr>
          <a:xfrm>
            <a:off x="1071720" y="49291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acu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nestidad – Arte 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56642" t="23124" r="10937" b="13128"/>
          <a:stretch/>
        </p:blipFill>
        <p:spPr>
          <a:xfrm>
            <a:off x="642960" y="857160"/>
            <a:ext cx="4714920" cy="579456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6072120" y="55720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. 1928-19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Joseph Beuys, 19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ehlt.flinders.edu.au/screen/guests/stelarc/students/amira.h/Joseph_Beuys.jpg"/>
          <p:cNvPicPr/>
          <p:nvPr/>
        </p:nvPicPr>
        <p:blipFill>
          <a:blip r:embed="rId2"/>
          <a:stretch/>
        </p:blipFill>
        <p:spPr>
          <a:xfrm>
            <a:off x="5643720" y="1500120"/>
            <a:ext cx="2971800" cy="40482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1214280" y="4143240"/>
            <a:ext cx="31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explicarle el arte a una lie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usseldorf, 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hawaii.edu/lruby/art359/IMAGES/ILIKEAM.GIF"/>
          <p:cNvPicPr/>
          <p:nvPr/>
        </p:nvPicPr>
        <p:blipFill>
          <a:blip r:embed="rId2"/>
          <a:stretch/>
        </p:blipFill>
        <p:spPr>
          <a:xfrm>
            <a:off x="2571840" y="1571760"/>
            <a:ext cx="619128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1214280" y="414324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 like Ame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 America Likes 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w york, 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htca.us.es/blogs/perezdelama/files/2008/10/hamilton.jpg"/>
          <p:cNvPicPr/>
          <p:nvPr/>
        </p:nvPicPr>
        <p:blipFill>
          <a:blip r:embed="rId2"/>
          <a:stretch/>
        </p:blipFill>
        <p:spPr>
          <a:xfrm>
            <a:off x="2828880" y="214200"/>
            <a:ext cx="6100920" cy="65008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214200" y="4143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Hamilton (U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ust what is it that makes today’s homes so different, so appeal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lichtensteinfoundation.org/images/3352.jpg"/>
          <p:cNvPicPr/>
          <p:nvPr/>
        </p:nvPicPr>
        <p:blipFill>
          <a:blip r:embed="rId2"/>
          <a:stretch/>
        </p:blipFill>
        <p:spPr>
          <a:xfrm>
            <a:off x="3929040" y="857160"/>
            <a:ext cx="47530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785880" y="4929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y Lich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jer llora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tudents.sbc.edu/kitchin04/artandexpression/war3%5b1%5d.jpg"/>
          <p:cNvPicPr/>
          <p:nvPr/>
        </p:nvPicPr>
        <p:blipFill>
          <a:blip r:embed="rId2"/>
          <a:stretch/>
        </p:blipFill>
        <p:spPr>
          <a:xfrm>
            <a:off x="2071800" y="196920"/>
            <a:ext cx="4348080" cy="65181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67867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pa Campb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mediabistro.com/unbeige/original/SPIRALJ.GIF"/>
          <p:cNvPicPr/>
          <p:nvPr/>
        </p:nvPicPr>
        <p:blipFill>
          <a:blip r:embed="rId2"/>
          <a:stretch/>
        </p:blipFill>
        <p:spPr>
          <a:xfrm>
            <a:off x="2357280" y="1714680"/>
            <a:ext cx="6191280" cy="406692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214200" y="428616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bert Smith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i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richardlong.org/images/3.jpg"/>
          <p:cNvPicPr/>
          <p:nvPr/>
        </p:nvPicPr>
        <p:blipFill>
          <a:blip r:embed="rId2"/>
          <a:stretch/>
        </p:blipFill>
        <p:spPr>
          <a:xfrm>
            <a:off x="4286160" y="2571840"/>
            <a:ext cx="3810240" cy="256212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714240" y="392904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inando una línea en Per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47:25Z</dcterms:created>
  <dc:creator>Carlos Rojas</dc:creator>
  <dc:description/>
  <dc:language>en-US</dc:language>
  <cp:lastModifiedBy>Carlos Rojas</cp:lastModifiedBy>
  <dcterms:modified xsi:type="dcterms:W3CDTF">2009-04-02T06:54:51Z</dcterms:modified>
  <cp:revision>14</cp:revision>
  <dc:subject/>
  <dc:title>Diapositiva 1</dc:title>
</cp:coreProperties>
</file>