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549-E254-4634-A79D-61B2ABE9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5DF-056D-49A9-A171-6E15679F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3FA-5E82-4A95-8EC8-EDFCB84A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C80-D0CF-4B40-A020-6520583B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65B-8E13-45A9-BB42-184E5DF2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3B5-3F05-47D1-974B-9E4723DF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EF7-F5DD-4664-AEA4-1C1E68F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701-D353-4EAC-8899-F573D72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25C-6F51-48E3-AE28-D9411434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E98-31E1-4ABD-977F-2A9D6B3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35C-4468-462A-80CB-F14E03A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E23-DECD-47EF-B0A9-C9C20570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E2DF-AB59-4397-96F7-54DE8B54398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_v_0JoK4y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2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sueños y manifi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pload.wikimedia.org/wikipedia/commons/8/8e/Intonarumori-vedu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upload.wikimedia.org/wikipedia/en/0/05/RroseSelavy.jpg"/>
          <p:cNvPicPr/>
          <p:nvPr/>
        </p:nvPicPr>
        <p:blipFill>
          <a:blip r:embed="rId2"/>
          <a:stretch/>
        </p:blipFill>
        <p:spPr>
          <a:xfrm>
            <a:off x="5072040" y="1785960"/>
            <a:ext cx="3390840" cy="432432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428760" y="407196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com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ose Se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Fotografía de Joseph Stiegli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09T04:41:42Z</dcterms:modified>
  <cp:revision>13</cp:revision>
  <dc:subject/>
  <dc:title>Diapositiva 1</dc:title>
</cp:coreProperties>
</file>