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235-775C-41B4-A1EC-A4D3EE0F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169-3854-4D3C-A215-F2CDE083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99B-F525-495E-9967-B6DE8131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F91-B3A8-4F4F-969E-ED963DD3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094-60CC-4ABD-9239-B2EF93D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8B4-F563-4287-B451-C01FD5D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5FA-B0B0-4E41-B134-CC6E3F25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767-E396-4526-82DE-B27C3418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CB3-A1A1-4668-B9B3-4A4EF40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B0F-3863-41E8-AB3A-1A7E7515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398-8A97-45D4-AFB7-ABD3AC3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5B1-2F06-45DC-B0BD-863BA1F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1C2-E705-493A-9AD4-AEDDABEC2A8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_v_0JoK4y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2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sueños y manifi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pload.wikimedia.org/wikipedia/commons/8/8e/Intonarumori-vedu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upload.wikimedia.org/wikipedia/en/0/05/RroseSelavy.jpg"/>
          <p:cNvPicPr/>
          <p:nvPr/>
        </p:nvPicPr>
        <p:blipFill>
          <a:blip r:embed="rId2"/>
          <a:stretch/>
        </p:blipFill>
        <p:spPr>
          <a:xfrm>
            <a:off x="5072040" y="1785960"/>
            <a:ext cx="3390840" cy="432432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428760" y="407196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com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ose Se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Fotografía de Joseph Stiegli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09T04:41:42Z</dcterms:modified>
  <cp:revision>13</cp:revision>
  <dc:subject/>
  <dc:title>Diapositiva 1</dc:title>
</cp:coreProperties>
</file>