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76DD-4584-4022-BBAA-858B674F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E3E7-4FD6-491D-AD9D-B75F1340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130D-6725-4E76-B6F1-CEA51326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AB2-9BD7-4DE0-81AE-777DFADE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9BD4-00AD-429F-A6B5-3E89BEAE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8C2F-732A-46DD-8177-679BBDD7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26A8-7AF2-431E-BE63-37F331C0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07E5-C49F-4BB2-98CB-48EA1498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EBBF-ADB7-4E5B-889D-358933F4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B47C-369D-496C-878B-020329D2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E2AE-AB3C-4884-9DCE-C087B972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5DE6-6623-4A87-80F3-4D6910BA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6F1E-9570-475B-87CF-41EC4066C9D2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seYUntQxmg&amp;feature=related" TargetMode="External"/><Relationship Id="rId2" Type="http://schemas.openxmlformats.org/officeDocument/2006/relationships/hyperlink" Target="http://www.youtube.com/watch?v=7seYUntQxmg&amp;feature=related" TargetMode="External"/><Relationship Id="rId3" Type="http://schemas.openxmlformats.org/officeDocument/2006/relationships/hyperlink" Target="http://www.youtube.com/watch?v=7seYUntQxmg&amp;feature=related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_v_0JoK4y4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12. Entrando al siglo X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898989"/>
                </a:solidFill>
                <a:latin typeface="Calibri"/>
              </a:rPr>
              <a:t>Entre sueños y manifies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 perro Andaluz, Luis Buñuel-Salvador Dalí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7seYUntQxmg&amp;feature=rel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http://www.youtube.com/watch?v=qMi74Nh0Rwk&amp;feature=rel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rcRect l="10988" t="13671" r="6249" b="6250"/>
          <a:stretch/>
        </p:blipFill>
        <p:spPr>
          <a:xfrm>
            <a:off x="571680" y="285840"/>
            <a:ext cx="8072280" cy="5857920"/>
          </a:xfrm>
          <a:prstGeom prst="rect">
            <a:avLst/>
          </a:prstGeom>
          <a:ln w="0">
            <a:noFill/>
          </a:ln>
        </p:spPr>
      </p:pic>
      <p:sp>
        <p:nvSpPr>
          <p:cNvPr id="48" name="4 CuadroTexto"/>
          <p:cNvSpPr/>
          <p:nvPr/>
        </p:nvSpPr>
        <p:spPr>
          <a:xfrm>
            <a:off x="642960" y="62150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onstrucción cinética, 19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ttp://upload.wikimedia.org/wikipedia/commons/8/8e/Intonarumori-vedut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214200"/>
            <a:ext cx="3809880" cy="2610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4"/>
          <a:srcRect l="21972" t="26368" r="23829" b="13086"/>
          <a:stretch/>
        </p:blipFill>
        <p:spPr>
          <a:xfrm>
            <a:off x="3214800" y="1357200"/>
            <a:ext cx="5286240" cy="4429080"/>
          </a:xfrm>
          <a:prstGeom prst="rect">
            <a:avLst/>
          </a:prstGeom>
          <a:ln w="0">
            <a:noFill/>
          </a:ln>
        </p:spPr>
      </p:pic>
      <p:sp>
        <p:nvSpPr>
          <p:cNvPr id="53" name="4 CuadroTexto"/>
          <p:cNvSpPr/>
          <p:nvPr/>
        </p:nvSpPr>
        <p:spPr>
          <a:xfrm>
            <a:off x="285840" y="571500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Giacomo Ba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inámica de Perro con collar, 19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upload.wikimedia.org/wikipedia/en/0/05/RroseSelavy.jpg"/>
          <p:cNvPicPr/>
          <p:nvPr/>
        </p:nvPicPr>
        <p:blipFill>
          <a:blip r:embed="rId2"/>
          <a:stretch/>
        </p:blipFill>
        <p:spPr>
          <a:xfrm>
            <a:off x="5072040" y="1785960"/>
            <a:ext cx="3390840" cy="4324320"/>
          </a:xfrm>
          <a:prstGeom prst="rect">
            <a:avLst/>
          </a:prstGeom>
          <a:ln w="0">
            <a:noFill/>
          </a:ln>
        </p:spPr>
      </p:pic>
      <p:sp>
        <p:nvSpPr>
          <p:cNvPr id="57" name="4 CuadroTexto"/>
          <p:cNvSpPr/>
          <p:nvPr/>
        </p:nvSpPr>
        <p:spPr>
          <a:xfrm>
            <a:off x="428760" y="4071960"/>
            <a:ext cx="207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Marcel Duchamp com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ose Sela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9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Fotografía de Joseph Stieglit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2:44:22Z</dcterms:created>
  <dc:creator>Usuario</dc:creator>
  <dc:description/>
  <dc:language>en-US</dc:language>
  <cp:lastModifiedBy>Usuario</cp:lastModifiedBy>
  <dcterms:modified xsi:type="dcterms:W3CDTF">2009-03-09T04:41:42Z</dcterms:modified>
  <cp:revision>13</cp:revision>
  <dc:subject/>
  <dc:title>Diapositiva 1</dc:title>
</cp:coreProperties>
</file>