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2C8-2AB5-487A-9A3D-5CD9F5D9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CB4-7000-4811-9D42-E824734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D7C-0E07-44B1-90FE-4C2DDBF2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C83-B74D-4718-A520-EB5CEA32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E46-8BBD-4861-BF5D-58FD5258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509-367C-434D-942E-760296E1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4EC-9F29-4DB4-AAC8-45C33A2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51A-FEFA-4A84-AC83-03F72CB4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9AD-5ECE-42AD-B858-DE57DEB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66B-CA8F-4390-B1D7-1E69923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344-4421-4E72-83BE-A59D8BD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A67-C1BF-45B9-BB5F-390CE56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E339-20D0-47E0-838C-FED846A8BFD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3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AAAAAAAAAAAAAbbbbbbbsssssssssssttttttttttrrrrraaaaaaaaccccccccctttttttttoooooooooo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Naum Gabo Linear Construction No. 1 1942-3"/>
          <p:cNvPicPr/>
          <p:nvPr/>
        </p:nvPicPr>
        <p:blipFill>
          <a:blip r:embed="rId1"/>
          <a:stretch/>
        </p:blipFill>
        <p:spPr>
          <a:xfrm>
            <a:off x="4214880" y="78588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185724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strucción linear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Archivo:TatlinMonument3int.jpg"/>
          <p:cNvPicPr/>
          <p:nvPr/>
        </p:nvPicPr>
        <p:blipFill>
          <a:blip r:embed="rId1"/>
          <a:stretch/>
        </p:blipFill>
        <p:spPr>
          <a:xfrm>
            <a:off x="4572000" y="785880"/>
            <a:ext cx="414324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1857240" y="44290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umento a la III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428760" y="40719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L.H.O.O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mus.ulaval.ca/lacasse/cours/Seminaires/Oeuvre/Images/duchampLHOOQ.jpg"/>
          <p:cNvPicPr/>
          <p:nvPr/>
        </p:nvPicPr>
        <p:blipFill>
          <a:blip r:embed="rId1"/>
          <a:stretch/>
        </p:blipFill>
        <p:spPr>
          <a:xfrm>
            <a:off x="4429080" y="357120"/>
            <a:ext cx="41814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upload.wikimedia.org/wikipedia/commons/8/8e/Intonarumori-veduta.jpg"/>
          <p:cNvPicPr/>
          <p:nvPr/>
        </p:nvPicPr>
        <p:blipFill>
          <a:blip r:embed="rId1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29289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igi Russ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cierto futu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ile:Einstein patentoffice.jpg"/>
          <p:cNvPicPr/>
          <p:nvPr/>
        </p:nvPicPr>
        <p:blipFill>
          <a:blip r:embed="rId1"/>
          <a:stretch/>
        </p:blipFill>
        <p:spPr>
          <a:xfrm>
            <a:off x="4500720" y="857160"/>
            <a:ext cx="43718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rchivo:Henri Bergson.jpg"/>
          <p:cNvPicPr/>
          <p:nvPr/>
        </p:nvPicPr>
        <p:blipFill>
          <a:blip r:embed="rId2"/>
          <a:stretch/>
        </p:blipFill>
        <p:spPr>
          <a:xfrm>
            <a:off x="214200" y="785880"/>
            <a:ext cx="3857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aum Gabo Head No. 2 1916, enlarged version 1964"/>
          <p:cNvPicPr/>
          <p:nvPr/>
        </p:nvPicPr>
        <p:blipFill>
          <a:blip r:embed="rId1"/>
          <a:stretch/>
        </p:blipFill>
        <p:spPr>
          <a:xfrm>
            <a:off x="5572080" y="1143000"/>
            <a:ext cx="317196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3286080" y="5143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beza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Naum Gabo Model for `Constructed Torso' 1917, reassembled 1981"/>
          <p:cNvPicPr/>
          <p:nvPr/>
        </p:nvPicPr>
        <p:blipFill>
          <a:blip r:embed="rId1"/>
          <a:stretch/>
        </p:blipFill>
        <p:spPr>
          <a:xfrm>
            <a:off x="5072040" y="1214280"/>
            <a:ext cx="359100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786040" y="4786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Naum Gabo Model for `Rotating Fountain' 1925, reassembled 1986"/>
          <p:cNvPicPr/>
          <p:nvPr/>
        </p:nvPicPr>
        <p:blipFill>
          <a:blip r:embed="rId1"/>
          <a:stretch/>
        </p:blipFill>
        <p:spPr>
          <a:xfrm>
            <a:off x="4714920" y="1214280"/>
            <a:ext cx="390528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2357280" y="5143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Naum Gabo Torsion 1928-36"/>
          <p:cNvPicPr/>
          <p:nvPr/>
        </p:nvPicPr>
        <p:blipFill>
          <a:blip r:embed="rId1"/>
          <a:stretch/>
        </p:blipFill>
        <p:spPr>
          <a:xfrm>
            <a:off x="4429080" y="571680"/>
            <a:ext cx="41436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2071800" y="40719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12T04:21:15Z</dcterms:modified>
  <cp:revision>21</cp:revision>
  <dc:subject/>
  <dc:title>Diapositiva 1</dc:title>
</cp:coreProperties>
</file>