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3288E-E024-4C2A-9129-52D30EC0F831}" type="slidenum">
              <a:rPr b="0" lang="es-CO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59EB3-B5EB-4A2A-BD25-F5DC74BF27F8}" type="slidenum">
              <a:rPr b="0" lang="es-CO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BD886-1CC0-4B44-95EC-39CD6BB37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C5348-8F31-4CF3-AFFE-6428FF1A5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BD1AD-AFB6-4A58-ADD5-7DCC665EC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88EBC-55A5-448F-8E1E-AB8E65764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7078E-EB4F-4263-B7A1-753C7F602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8A295-D438-4955-B234-B5C39444C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960B8-6297-4AA5-8A24-242765C53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7C678-AE41-423C-AAC9-0E58CD227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CF857-E621-4A13-B0AF-34BDAF5A4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6CBF2-224C-46F9-9A1C-AF4E8859D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C2CA9-6DB3-4A56-935D-BC8818069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3E2BC-71A0-4B28-AF45-B5E3164D4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5D430-E4D0-44E4-B21F-B97F92657DA3}" type="slidenum">
              <a:rPr b="0" lang="es-C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UrRUDS1xbNs&amp;feature=related" TargetMode="External"/><Relationship Id="rId2" Type="http://schemas.openxmlformats.org/officeDocument/2006/relationships/hyperlink" Target="http://www.youtube.com/watch?v=Ei6nJfXAuHQ&amp;NR=1" TargetMode="External"/><Relationship Id="rId3" Type="http://schemas.openxmlformats.org/officeDocument/2006/relationships/hyperlink" Target="http://www.youtube.com/watch?v=2cUEANKv964&amp;feature=PlayList&amp;p=8C644C38C1F33EC2&amp;index=1" TargetMode="External"/><Relationship Id="rId4" Type="http://schemas.openxmlformats.org/officeDocument/2006/relationships/hyperlink" Target="http://www.youtube.com/watch?v=zs5BBaNJ6mg" TargetMode="External"/><Relationship Id="rId5" Type="http://schemas.openxmlformats.org/officeDocument/2006/relationships/hyperlink" Target="http://www.youtube.com/watch?v=SWY3LjLw91Q&amp;feature=related" TargetMode="Externa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BQ3S7_2tSZQ&amp;feature=PlayList&amp;p=511E0EE8412E0DC0&amp;index=19" TargetMode="External"/><Relationship Id="rId2" Type="http://schemas.openxmlformats.org/officeDocument/2006/relationships/hyperlink" Target="http://www.youtube.com/watch?v=sC9R3idwY5k" TargetMode="External"/><Relationship Id="rId3" Type="http://schemas.openxmlformats.org/officeDocument/2006/relationships/hyperlink" Target="http://www.youtube.com/watch?v=h0ebWlaFu58&amp;feature=PlayList&amp;p=933206BF46396165&amp;playnext=1&amp;playnext_from=PL&amp;index=6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000000"/>
                </a:solidFill>
                <a:latin typeface="Calibri"/>
              </a:rPr>
              <a:t>La modernidad- Inici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Edward Muybridge, Caballo, 187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youtube.com/watch?v=UrRUDS1xbNs&amp;feature=relat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Lumiere, Regador regad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www.youtube.com/watch?v=Ei6nJfXAuHQ&amp;NR=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Lumiere, Llegada de un tren, 189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://www.youtube.com/watch?v=2cUEANKv964&amp;feature=PlayList&amp;p=8C644C38C1F33EC2&amp;index=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Georges Melies, Conjuro , 189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http://www.youtube.com/watch?v=zs5BBaNJ6m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Georges Melies, 4 cortos inédito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http://www.youtube.com/watch?v=SWY3LjLw91Q&amp;feature=relat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000000"/>
                </a:solidFill>
                <a:latin typeface="Calibri"/>
              </a:rPr>
              <a:t>El cine y la nació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300" spc="-1" strike="noStrike">
                <a:solidFill>
                  <a:srgbClr val="000000"/>
                </a:solidFill>
                <a:latin typeface="Calibri"/>
              </a:rPr>
              <a:t>D.W. Griffith, Nacimiento de la Nación, 1915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3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youtube.com/watch?v=BQ3S7_2tSZQ&amp;feature=PlayList&amp;p=511E0EE8412E0DC0&amp;index=19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300" spc="-1" strike="noStrike">
                <a:solidFill>
                  <a:srgbClr val="000000"/>
                </a:solidFill>
                <a:latin typeface="Calibri"/>
              </a:rPr>
              <a:t>Lev Kuleshov, Por la Ley, 1927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3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www.youtube.com/watch?v=sC9R3idwY5k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300" spc="-1" strike="noStrike">
                <a:solidFill>
                  <a:srgbClr val="000000"/>
                </a:solidFill>
                <a:latin typeface="Calibri"/>
              </a:rPr>
              <a:t>Sergei Eisenstein, Octubre, 1928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3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://www.youtube.com/watch?v=h0ebWlaFu58&amp;feature=PlayList&amp;p=933206BF46396165&amp;playnext=1&amp;playnext_from=PL&amp;index=6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300" spc="-1" strike="noStrike">
                <a:solidFill>
                  <a:srgbClr val="000000"/>
                </a:solidFill>
                <a:latin typeface="Calibri"/>
              </a:rPr>
              <a:t>Metrópolis, Fritz Lang, 1926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300" spc="-1" strike="noStrike">
                <a:solidFill>
                  <a:srgbClr val="000000"/>
                </a:solidFill>
                <a:latin typeface="Calibri"/>
              </a:rPr>
              <a:t>http://www.youtube.com/watch?v=f-qS1OjBdG8&amp;feature=related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300" spc="-1" strike="noStrike">
                <a:solidFill>
                  <a:srgbClr val="000000"/>
                </a:solidFill>
                <a:latin typeface="Calibri"/>
              </a:rPr>
              <a:t>Charles Chaplin, Modern Times, 1936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300" spc="-1" strike="noStrike">
                <a:solidFill>
                  <a:srgbClr val="000000"/>
                </a:solidFill>
                <a:latin typeface="Calibri"/>
              </a:rPr>
              <a:t>http://www.youtube.com/watch?v=AvNQiF89Pek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300" spc="-1" strike="noStrike">
                <a:solidFill>
                  <a:srgbClr val="000000"/>
                </a:solidFill>
                <a:latin typeface="Calibri"/>
              </a:rPr>
              <a:t>Olimpia, Leny Riefenstahl, 1938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300" spc="-1" strike="noStrike">
                <a:solidFill>
                  <a:srgbClr val="000000"/>
                </a:solidFill>
                <a:latin typeface="Calibri"/>
              </a:rPr>
              <a:t>http://www.youtube.com/watch?v=x6-0Cz73wwQ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000000"/>
                </a:solidFill>
                <a:latin typeface="Calibri"/>
              </a:rPr>
              <a:t>Los bajos fond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Calibri"/>
              </a:rPr>
              <a:t>Neorrealismo italian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Calibri"/>
              </a:rPr>
              <a:t>http://www.youtube.com/watch?v=qb_9Dohtbm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04:42:30Z</dcterms:created>
  <dc:creator>Usuario</dc:creator>
  <dc:description/>
  <dc:language>en-US</dc:language>
  <cp:lastModifiedBy>Usuario</cp:lastModifiedBy>
  <dcterms:modified xsi:type="dcterms:W3CDTF">2009-03-26T06:14:12Z</dcterms:modified>
  <cp:revision>11</cp:revision>
  <dc:subject/>
  <dc:title>La modernidad</dc:title>
</cp:coreProperties>
</file>