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F6E2C-C9EB-4C9F-A763-BFFC137C1FD4}" type="slidenum">
              <a:rPr b="0" lang="es-CO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B791F-DE5A-4766-BF31-18D36A19456D}" type="slidenum">
              <a:rPr b="0" lang="es-CO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0E12D-0318-457E-845C-EBCA987D3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7572F-FECB-4005-AEE2-2E856D912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9677E-F4B2-49D4-9F05-732488F2D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C94BA-391B-4DC6-B209-5009DD73F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F8F3D-EB33-4091-875B-ABE673F15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AC171-E2AF-4C02-A56E-E2C6D1564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3233F-9B0D-4D26-8039-95FD265D9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16F91-6D9B-4A18-8BEB-B1E00C9E8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01F98-3A8F-4501-BBC7-E8106C3FD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7D447-A66B-4A61-BDE8-145A552C8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6F669-6DAF-419C-9943-92181B134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5853C-66A7-4DFF-B5DF-EEC3BC5D0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9EC3B-21BA-4B16-BA2F-5E54A305D069}" type="slidenum">
              <a:rPr b="0" lang="es-C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UrRUDS1xbNs&amp;feature=related" TargetMode="External"/><Relationship Id="rId2" Type="http://schemas.openxmlformats.org/officeDocument/2006/relationships/hyperlink" Target="http://www.youtube.com/watch?v=Ei6nJfXAuHQ&amp;NR=1" TargetMode="External"/><Relationship Id="rId3" Type="http://schemas.openxmlformats.org/officeDocument/2006/relationships/hyperlink" Target="http://www.youtube.com/watch?v=2cUEANKv964&amp;feature=PlayList&amp;p=8C644C38C1F33EC2&amp;index=1" TargetMode="External"/><Relationship Id="rId4" Type="http://schemas.openxmlformats.org/officeDocument/2006/relationships/hyperlink" Target="http://www.youtube.com/watch?v=zs5BBaNJ6mg" TargetMode="External"/><Relationship Id="rId5" Type="http://schemas.openxmlformats.org/officeDocument/2006/relationships/hyperlink" Target="http://www.youtube.com/watch?v=SWY3LjLw91Q&amp;feature=related" TargetMode="Externa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BQ3S7_2tSZQ&amp;feature=PlayList&amp;p=511E0EE8412E0DC0&amp;index=19" TargetMode="External"/><Relationship Id="rId2" Type="http://schemas.openxmlformats.org/officeDocument/2006/relationships/hyperlink" Target="http://www.youtube.com/watch?v=sC9R3idwY5k" TargetMode="External"/><Relationship Id="rId3" Type="http://schemas.openxmlformats.org/officeDocument/2006/relationships/hyperlink" Target="http://www.youtube.com/watch?v=h0ebWlaFu58&amp;feature=PlayList&amp;p=933206BF46396165&amp;playnext=1&amp;playnext_from=PL&amp;index=6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000000"/>
                </a:solidFill>
                <a:latin typeface="Calibri"/>
              </a:rPr>
              <a:t>La modernidad- Inici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Edward Muybridge, Caballo, 187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youtube.com/watch?v=UrRUDS1xbNs&amp;feature=relat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Lumiere, Regador regad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www.youtube.com/watch?v=Ei6nJfXAuHQ&amp;NR=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Lumiere, Llegada de un tren, 189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://www.youtube.com/watch?v=2cUEANKv964&amp;feature=PlayList&amp;p=8C644C38C1F33EC2&amp;index=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Georges Melies, Conjuro , 189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http://www.youtube.com/watch?v=zs5BBaNJ6m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Georges Melies, 4 cortos inédito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http://www.youtube.com/watch?v=SWY3LjLw91Q&amp;feature=relat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000000"/>
                </a:solidFill>
                <a:latin typeface="Calibri"/>
              </a:rPr>
              <a:t>El cine y la nació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300" spc="-1" strike="noStrike">
                <a:solidFill>
                  <a:srgbClr val="000000"/>
                </a:solidFill>
                <a:latin typeface="Calibri"/>
              </a:rPr>
              <a:t>D.W. Griffith, Nacimiento de la Nación, 1915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3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youtube.com/watch?v=BQ3S7_2tSZQ&amp;feature=PlayList&amp;p=511E0EE8412E0DC0&amp;index=19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300" spc="-1" strike="noStrike">
                <a:solidFill>
                  <a:srgbClr val="000000"/>
                </a:solidFill>
                <a:latin typeface="Calibri"/>
              </a:rPr>
              <a:t>Lev Kuleshov, Por la Ley, 1927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3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www.youtube.com/watch?v=sC9R3idwY5k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300" spc="-1" strike="noStrike">
                <a:solidFill>
                  <a:srgbClr val="000000"/>
                </a:solidFill>
                <a:latin typeface="Calibri"/>
              </a:rPr>
              <a:t>Sergei Eisenstein, Octubre, 1928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3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://www.youtube.com/watch?v=h0ebWlaFu58&amp;feature=PlayList&amp;p=933206BF46396165&amp;playnext=1&amp;playnext_from=PL&amp;index=6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300" spc="-1" strike="noStrike">
                <a:solidFill>
                  <a:srgbClr val="000000"/>
                </a:solidFill>
                <a:latin typeface="Calibri"/>
              </a:rPr>
              <a:t>Metrópolis, Fritz Lang, 1926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300" spc="-1" strike="noStrike">
                <a:solidFill>
                  <a:srgbClr val="000000"/>
                </a:solidFill>
                <a:latin typeface="Calibri"/>
              </a:rPr>
              <a:t>http://www.youtube.com/watch?v=f-qS1OjBdG8&amp;feature=related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300" spc="-1" strike="noStrike">
                <a:solidFill>
                  <a:srgbClr val="000000"/>
                </a:solidFill>
                <a:latin typeface="Calibri"/>
              </a:rPr>
              <a:t>Charles Chaplin, Modern Times, 1936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300" spc="-1" strike="noStrike">
                <a:solidFill>
                  <a:srgbClr val="000000"/>
                </a:solidFill>
                <a:latin typeface="Calibri"/>
              </a:rPr>
              <a:t>http://www.youtube.com/watch?v=AvNQiF89Pek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300" spc="-1" strike="noStrike">
                <a:solidFill>
                  <a:srgbClr val="000000"/>
                </a:solidFill>
                <a:latin typeface="Calibri"/>
              </a:rPr>
              <a:t>Olimpia, Leny Riefenstahl, 1938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300" spc="-1" strike="noStrike">
                <a:solidFill>
                  <a:srgbClr val="000000"/>
                </a:solidFill>
                <a:latin typeface="Calibri"/>
              </a:rPr>
              <a:t>http://www.youtube.com/watch?v=x6-0Cz73wwQ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000000"/>
                </a:solidFill>
                <a:latin typeface="Calibri"/>
              </a:rPr>
              <a:t>Los bajos fond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Calibri"/>
              </a:rPr>
              <a:t>Neorrealismo italian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Calibri"/>
              </a:rPr>
              <a:t>http://www.youtube.com/watch?v=qb_9Dohtbm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04:42:30Z</dcterms:created>
  <dc:creator>Usuario</dc:creator>
  <dc:description/>
  <dc:language>en-US</dc:language>
  <cp:lastModifiedBy>Usuario</cp:lastModifiedBy>
  <dcterms:modified xsi:type="dcterms:W3CDTF">2009-03-26T06:14:12Z</dcterms:modified>
  <cp:revision>11</cp:revision>
  <dc:subject/>
  <dc:title>La modernidad</dc:title>
</cp:coreProperties>
</file>