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B5E-1D55-488C-BA2E-24F60E83AD2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AC2-3BF1-487D-B441-A6AAD06AB73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8E2-B8D3-4C67-8552-D4C187FA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67C-0AAC-4D94-9BEF-D954144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ACC-F7EC-46E4-8A89-F2DD6893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EEB-4291-49EB-9E36-FCE36425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4DE-1B0B-4BE4-B328-3F728B72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85B-929C-4170-B29A-7A1C262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7D9-B5AC-43F1-A122-E5E9377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3F4-84A6-4FFC-A55B-DF830EF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B12-5FC4-4119-A50C-5B51C575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BE6-A63A-49E5-8055-08827F7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AAD-465D-447C-959C-70518A1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9F3-85DC-449B-BB71-74C0F26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6ED7-6499-4D2E-B6D4-C4956AD8D92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rRUDS1xbNs&amp;feature=related" TargetMode="External"/><Relationship Id="rId2" Type="http://schemas.openxmlformats.org/officeDocument/2006/relationships/hyperlink" Target="http://www.youtube.com/watch?v=Ei6nJfXAuHQ&amp;NR=1" TargetMode="External"/><Relationship Id="rId3" Type="http://schemas.openxmlformats.org/officeDocument/2006/relationships/hyperlink" Target="http://www.youtube.com/watch?v=2cUEANKv964&amp;feature=PlayList&amp;p=8C644C38C1F33EC2&amp;index=1" TargetMode="External"/><Relationship Id="rId4" Type="http://schemas.openxmlformats.org/officeDocument/2006/relationships/hyperlink" Target="http://www.youtube.com/watch?v=zs5BBaNJ6mg" TargetMode="External"/><Relationship Id="rId5" Type="http://schemas.openxmlformats.org/officeDocument/2006/relationships/hyperlink" Target="http://www.youtube.com/watch?v=SWY3LjLw91Q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3S7_2tSZQ&amp;feature=PlayList&amp;p=511E0EE8412E0DC0&amp;index=19" TargetMode="External"/><Relationship Id="rId2" Type="http://schemas.openxmlformats.org/officeDocument/2006/relationships/hyperlink" Target="http://www.youtube.com/watch?v=sC9R3idwY5k" TargetMode="External"/><Relationship Id="rId3" Type="http://schemas.openxmlformats.org/officeDocument/2006/relationships/hyperlink" Target="http://www.youtube.com/watch?v=h0ebWlaFu58&amp;feature=PlayList&amp;p=933206BF46396165&amp;playnext=1&amp;playnext_from=PL&amp;index=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a modernidad- In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ward Muybridge, Caballo, 18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UrRUDS1xbNs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Regador 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Ei6nJfXAuHQ&amp;NR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umiere, Llegada de un tren, 18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2cUEANKv964&amp;feature=PlayList&amp;p=8C644C38C1F33EC2&amp;index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Conjuro , 18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zs5BBaNJ6m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orges Melies, 4 cortos inéd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youtube.com/watch?v=SWY3LjLw91Q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cine y la 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D.W. Griffith, Nacimiento de la Nación, 19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Q3S7_2tSZQ&amp;feature=PlayList&amp;p=511E0EE8412E0DC0&amp;index=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Lev Kuleshov, Por la Ley, 192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sC9R3idwY5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Sergei Eisenstein, Octubre, 192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0ebWlaFu58&amp;feature=PlayList&amp;p=933206BF46396165&amp;playnext=1&amp;playnext_from=PL&amp;index=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Metrópolis, Fritz Lang, 192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f-qS1OjBdG8&amp;feature=rela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Charles Chaplin, Modern Times, 193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AvNQiF89Pe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Olimpia, Leny Riefenstahl, 193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Calibri"/>
              </a:rPr>
              <a:t>http://www.youtube.com/watch?v=x6-0Cz73wwQ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Los bajos fon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eorrealismo ital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http://www.youtube.com/watch?v=qb_9Dohtb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4:42:30Z</dcterms:created>
  <dc:creator>Usuario</dc:creator>
  <dc:description/>
  <dc:language>en-US</dc:language>
  <cp:lastModifiedBy>Usuario</cp:lastModifiedBy>
  <dcterms:modified xsi:type="dcterms:W3CDTF">2009-03-26T06:14:12Z</dcterms:modified>
  <cp:revision>11</cp:revision>
  <dc:subject/>
  <dc:title>La modernidad</dc:title>
</cp:coreProperties>
</file>