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22C-CA6A-463C-A8B3-E4E0BA59224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7F0-3EE7-4883-A529-0E014DF8172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09B-7729-4C00-B2FC-FDFD42EBCCF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710-D47D-4A2D-856E-46C64E7EBA4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BEF-9757-4A55-BD27-DBA2585DDE7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667-4D8B-48B9-A5C9-DDB8469EA41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476-4B6A-49F9-B17A-40A581E9F70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2503-DB9A-46E5-8855-5828D18D068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8BE0-BF30-4998-85C2-615E2B4BD27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A87C-EB56-4332-9927-E8119424399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B419-E077-4F83-97E2-68C2D7137BE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AE6-A4FE-4995-B8A9-14A458741E6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536-818B-4F6F-A728-93CBC027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7BA-B40A-42F3-9FDD-746C235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AD5-352E-4E48-B128-2385731D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A9E-CE9B-4839-9572-7128E32A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361-2AAD-4AB5-8BA7-4A74673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CF5-D690-41DF-B4A3-EE272EC2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2DA-00B1-4A3B-A761-775F6E5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418-E3FE-4A05-9C50-FFC125C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6BB-EF60-402A-9E3B-A5BBECC4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250-F042-4711-BE21-E15DC1B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FAF-8E22-4987-B214-C97C05F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D30-0F42-4040-9454-4476236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6701-EC69-4D23-A2B0-3E7C1FF7356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6. West-earn-e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a creación de occi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richardlong.org/images/images%20072/cscross.jpg"/>
          <p:cNvPicPr/>
          <p:nvPr/>
        </p:nvPicPr>
        <p:blipFill>
          <a:blip r:embed="rId2"/>
          <a:stretch/>
        </p:blipFill>
        <p:spPr>
          <a:xfrm>
            <a:off x="1857240" y="1214280"/>
            <a:ext cx="7115400" cy="476280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214200" y="538020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u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cottish National Gallery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Nacion.com"/>
          <p:cNvPicPr/>
          <p:nvPr/>
        </p:nvPicPr>
        <p:blipFill>
          <a:blip r:embed="rId2"/>
          <a:stretch/>
        </p:blipFill>
        <p:spPr>
          <a:xfrm>
            <a:off x="5000760" y="2714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71720" y="49291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acu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nestidad – Arte 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56642" t="23124" r="10937" b="13128"/>
          <a:stretch/>
        </p:blipFill>
        <p:spPr>
          <a:xfrm>
            <a:off x="642960" y="857160"/>
            <a:ext cx="4714920" cy="579456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6072120" y="5572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. 1928-19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Joseph Beuys, 19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ehlt.flinders.edu.au/screen/guests/stelarc/students/amira.h/Joseph_Beuys.jpg"/>
          <p:cNvPicPr/>
          <p:nvPr/>
        </p:nvPicPr>
        <p:blipFill>
          <a:blip r:embed="rId2"/>
          <a:stretch/>
        </p:blipFill>
        <p:spPr>
          <a:xfrm>
            <a:off x="5643720" y="1500120"/>
            <a:ext cx="2971800" cy="40482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1214280" y="4143240"/>
            <a:ext cx="31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explicarle el arte a una li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usseldorf, 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hawaii.edu/lruby/art359/IMAGES/ILIKEAM.GIF"/>
          <p:cNvPicPr/>
          <p:nvPr/>
        </p:nvPicPr>
        <p:blipFill>
          <a:blip r:embed="rId2"/>
          <a:stretch/>
        </p:blipFill>
        <p:spPr>
          <a:xfrm>
            <a:off x="2571840" y="1571760"/>
            <a:ext cx="619128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1214280" y="414324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ph Beu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21-1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 like Ame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 America Likes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w york, 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htca.us.es/blogs/perezdelama/files/2008/10/hamilton.jpg"/>
          <p:cNvPicPr/>
          <p:nvPr/>
        </p:nvPicPr>
        <p:blipFill>
          <a:blip r:embed="rId2"/>
          <a:stretch/>
        </p:blipFill>
        <p:spPr>
          <a:xfrm>
            <a:off x="2828880" y="214200"/>
            <a:ext cx="610092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21420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Hamilton (U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st what is it that makes today’s homes so different, so appeal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lichtensteinfoundation.org/images/3352.jpg"/>
          <p:cNvPicPr/>
          <p:nvPr/>
        </p:nvPicPr>
        <p:blipFill>
          <a:blip r:embed="rId2"/>
          <a:stretch/>
        </p:blipFill>
        <p:spPr>
          <a:xfrm>
            <a:off x="3929040" y="857160"/>
            <a:ext cx="47530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785880" y="4929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y Lich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jer llora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tudents.sbc.edu/kitchin04/artandexpression/war3%5b1%5d.jpg"/>
          <p:cNvPicPr/>
          <p:nvPr/>
        </p:nvPicPr>
        <p:blipFill>
          <a:blip r:embed="rId2"/>
          <a:stretch/>
        </p:blipFill>
        <p:spPr>
          <a:xfrm>
            <a:off x="2071800" y="196920"/>
            <a:ext cx="4348080" cy="65181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67867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dy War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pa Camp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mediabistro.com/unbeige/original/SPIRALJ.GIF"/>
          <p:cNvPicPr/>
          <p:nvPr/>
        </p:nvPicPr>
        <p:blipFill>
          <a:blip r:embed="rId2"/>
          <a:stretch/>
        </p:blipFill>
        <p:spPr>
          <a:xfrm>
            <a:off x="2357280" y="1714680"/>
            <a:ext cx="6191280" cy="406692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214200" y="428616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bert Smith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richardlong.org/images/3.jpg"/>
          <p:cNvPicPr/>
          <p:nvPr/>
        </p:nvPicPr>
        <p:blipFill>
          <a:blip r:embed="rId2"/>
          <a:stretch/>
        </p:blipFill>
        <p:spPr>
          <a:xfrm>
            <a:off x="4286160" y="2571840"/>
            <a:ext cx="381024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714240" y="392904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chard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inando una línea en Per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47:25Z</dcterms:created>
  <dc:creator>Carlos Rojas</dc:creator>
  <dc:description/>
  <dc:language>en-US</dc:language>
  <cp:lastModifiedBy>Carlos Rojas</cp:lastModifiedBy>
  <dcterms:modified xsi:type="dcterms:W3CDTF">2009-04-02T06:54:51Z</dcterms:modified>
  <cp:revision>14</cp:revision>
  <dc:subject/>
  <dc:title>Diapositiva 1</dc:title>
</cp:coreProperties>
</file>