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ABF-82DF-4632-9BBE-019E678F27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339-6A52-4F9F-A80A-E959029A4F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02E-2826-4CE4-8C6C-0B10867C4E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1A89-7FF5-48DA-9CEB-EA64CF4B24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081-C392-4D12-B42E-BDDDB4A558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0D6-C186-4674-A273-3E511A3F1F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hfghf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4219-F07C-467C-90C2-48B5959DAF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41F3-0893-464A-A096-3A9C7BA08A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C9A2-0F8C-4405-9A18-07A25F3B69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73C-F132-477E-B16E-D914B69024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FD3-10D6-4B50-8606-88A699F171C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609-A2FA-4E19-B20D-1DCB89484E4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2F37-D99B-41B0-AAFB-99CF3FCECD1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2EF-80A7-4504-A159-ED19F8221F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DBA4-10DA-44AF-9A1C-DF72BA483D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1E1-2420-42AD-AA50-BD550D13CA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4246-73DA-4A73-AB3C-4E93116558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F96-B173-4BB3-A495-0187220A41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22D-764C-4147-8FD0-80B99614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378-F967-46AE-B723-8F49F753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6CC-71B3-4C2A-96CB-8CA0505F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1D0-96AB-4902-B240-D128B79A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6B1-7306-4713-A8DB-2652503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75B-0946-45BF-A649-6F1978DE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4A1-9BB7-4CFC-9715-DD73A24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CD2-8892-4948-8E86-E13315D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063-8A87-40B4-B647-D143E53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B9D-07BF-48C7-AE49-5535D92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AD8-18B8-4F3D-AE2B-A577161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EC6-842E-45EA-B9CB-A2946A7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4A6-0451-4ABE-BEE3-CD4EF8DE300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L2IIkOudg" TargetMode="External"/><Relationship Id="rId2" Type="http://schemas.openxmlformats.org/officeDocument/2006/relationships/hyperlink" Target="http://www.youtube.com/watch?v=me8lCSBMzJ0" TargetMode="External"/><Relationship Id="rId3" Type="http://schemas.openxmlformats.org/officeDocument/2006/relationships/hyperlink" Target="http://www.youtube.com/watch?v=dtJwA4vtpKU&amp;feature=related" TargetMode="External"/><Relationship Id="rId4" Type="http://schemas.openxmlformats.org/officeDocument/2006/relationships/hyperlink" Target="http://www.youtube.com/watch?v=fxWe_XBOqes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6. La palabra entre el sonido y la imagen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imera parte: El Barro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[San+Ignacio+de+Loyola-3.jpg]"/>
          <p:cNvPicPr/>
          <p:nvPr/>
        </p:nvPicPr>
        <p:blipFill>
          <a:blip r:embed="rId1"/>
          <a:stretch/>
        </p:blipFill>
        <p:spPr>
          <a:xfrm>
            <a:off x="4500720" y="981000"/>
            <a:ext cx="321912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924080" y="5135400"/>
            <a:ext cx="19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n Ignacio de Loy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n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a Compañía de Jesú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58500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5] QUINTO EXERCICIO ES MEDITACION DEL INFIERNO;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6] 1º puncto. El primer puncto será ver con la vista de la imaginación los grandes fuegos, y las ánimas como en cuerpos ígne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7] 2º El 2º: oír con las orejas llantos, alaridos, voces, blasfemias contra Christo nuestro Señor y contra todos sus santo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8] 3º El 3º: oler con el olfato humo, piedra azufre, sentina y cosas pútrida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69] 4º El 4º: gustar con el gusto cosas amargas, así como lágrimas, tristeza y el verme de la conscienci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70] 5º El 5º: tocar con el tacto, es a saber, cómo los fuegos tocan y abrasan las ánim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www.sip.uiuc.edu/people/melendez/span442/SPA442-images/ReligionandCannibalism/Vision%20guarani%20del%20infierno.gif"/>
          <p:cNvPicPr/>
          <p:nvPr/>
        </p:nvPicPr>
        <p:blipFill>
          <a:blip r:embed="rId1"/>
          <a:stretch/>
        </p:blipFill>
        <p:spPr>
          <a:xfrm>
            <a:off x="1619280" y="404640"/>
            <a:ext cx="3092400" cy="4191120"/>
          </a:xfrm>
          <a:prstGeom prst="rect">
            <a:avLst/>
          </a:prstGeom>
          <a:ln w="0">
            <a:noFill/>
          </a:ln>
        </p:spPr>
      </p:pic>
      <p:sp>
        <p:nvSpPr>
          <p:cNvPr id="178" name="5 Rectángulo"/>
          <p:cNvSpPr/>
          <p:nvPr/>
        </p:nvSpPr>
        <p:spPr>
          <a:xfrm>
            <a:off x="1042920" y="4653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sion guarani del Infierno.Grabado de J.E.Nieremberg en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a diferencia entre lo temporal y eterno crisol de desengaños con la memoria de la eternidad traducido en guarani por el padre Joseph Serrano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(17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agi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33200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19640" y="20080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ción de un yo fragmentado en un yo total, completo, que se define a través de la identificación del otro y concluye en la definición de un cuerpo. (La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03640" y="3500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3131640" y="3573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##"/>
          <p:cNvPicPr/>
          <p:nvPr/>
        </p:nvPicPr>
        <p:blipFill>
          <a:blip r:embed="rId1"/>
          <a:stretch/>
        </p:blipFill>
        <p:spPr>
          <a:xfrm>
            <a:off x="2500200" y="1000080"/>
            <a:ext cx="4191120" cy="3495600"/>
          </a:xfrm>
          <a:prstGeom prst="rect">
            <a:avLst/>
          </a:prstGeom>
          <a:ln w="0">
            <a:noFill/>
          </a:ln>
        </p:spPr>
      </p:pic>
      <p:sp>
        <p:nvSpPr>
          <p:cNvPr id="185" name="3 CuadroTexto"/>
          <p:cNvSpPr/>
          <p:nvPr/>
        </p:nvSpPr>
        <p:spPr>
          <a:xfrm>
            <a:off x="2428920" y="45720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bado sobre Mateo Ri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vange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7230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4 CuadroTexto"/>
          <p:cNvSpPr/>
          <p:nvPr/>
        </p:nvSpPr>
        <p:spPr>
          <a:xfrm>
            <a:off x="5143680" y="5214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eum Kircheranium. Athanasius Kircher S.J., S.XVII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072040" y="571680"/>
            <a:ext cx="3686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encia y mem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rchivo:Musurgia.jpg"/>
          <p:cNvPicPr/>
          <p:nvPr/>
        </p:nvPicPr>
        <p:blipFill>
          <a:blip r:embed="rId1"/>
          <a:stretch/>
        </p:blipFill>
        <p:spPr>
          <a:xfrm>
            <a:off x="5429160" y="1143000"/>
            <a:ext cx="2981520" cy="4762440"/>
          </a:xfrm>
          <a:prstGeom prst="rect">
            <a:avLst/>
          </a:prstGeom>
          <a:ln w="0">
            <a:noFill/>
          </a:ln>
        </p:spPr>
      </p:pic>
      <p:sp>
        <p:nvSpPr>
          <p:cNvPr id="194" name="4 CuadroTexto"/>
          <p:cNvSpPr/>
          <p:nvPr/>
        </p:nvSpPr>
        <p:spPr>
          <a:xfrm>
            <a:off x="1643040" y="52862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surgia Universalis. Athanasius Kircher S.J., 1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428920" y="28584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IGLO XVIII -Los gabinetes de curiosidad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catalo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abinete de curiosidades"/>
          <p:cNvPicPr/>
          <p:nvPr/>
        </p:nvPicPr>
        <p:blipFill>
          <a:blip r:embed="rId1"/>
          <a:stretch/>
        </p:blipFill>
        <p:spPr>
          <a:xfrm>
            <a:off x="345960" y="1212840"/>
            <a:ext cx="398808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binete2"/>
          <p:cNvPicPr/>
          <p:nvPr/>
        </p:nvPicPr>
        <p:blipFill>
          <a:blip r:embed="rId2"/>
          <a:stretch/>
        </p:blipFill>
        <p:spPr>
          <a:xfrm>
            <a:off x="4930920" y="1587600"/>
            <a:ext cx="3895560" cy="48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abinete3"/>
          <p:cNvPicPr/>
          <p:nvPr/>
        </p:nvPicPr>
        <p:blipFill>
          <a:blip r:embed="rId3"/>
          <a:stretch/>
        </p:blipFill>
        <p:spPr>
          <a:xfrm>
            <a:off x="920880" y="4495680"/>
            <a:ext cx="26683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es el barro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EL2IIkOud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Preludio en C Mayor Johan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bastian B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(1727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me8lCSBMzJ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Thom  York. Analyze.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Bach, El arte de la fuga, Contrapunto 1 (174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dtJwA4vtpKU&amp;feature=rel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tor Piazzola, Fuga y misterio (S.X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fxWe_XBOq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Archivo:KdF Motiv2.png"/>
          <p:cNvPicPr/>
          <p:nvPr/>
        </p:nvPicPr>
        <p:blipFill>
          <a:blip r:embed="rId5"/>
          <a:stretch/>
        </p:blipFill>
        <p:spPr>
          <a:xfrm>
            <a:off x="357120" y="4214880"/>
            <a:ext cx="8250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upload.wikimedia.org/wikipedia/commons/4/4c/Ecstasy_St_Theresa_SM_della_Vittoria.jpg"/>
          <p:cNvPicPr/>
          <p:nvPr/>
        </p:nvPicPr>
        <p:blipFill>
          <a:blip r:embed="rId1"/>
          <a:stretch/>
        </p:blipFill>
        <p:spPr>
          <a:xfrm>
            <a:off x="4786200" y="1411200"/>
            <a:ext cx="4357800" cy="544680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2143080" y="5934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ian Lorenzo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upload.wikimedia.org/wikipedia/commons/e/ec/Roman_architecture.jpg"/>
          <p:cNvPicPr/>
          <p:nvPr/>
        </p:nvPicPr>
        <p:blipFill>
          <a:blip r:embed="rId1"/>
          <a:stretch/>
        </p:blipFill>
        <p:spPr>
          <a:xfrm>
            <a:off x="4286160" y="928800"/>
            <a:ext cx="4038840" cy="5352840"/>
          </a:xfrm>
          <a:prstGeom prst="rect">
            <a:avLst/>
          </a:prstGeom>
          <a:ln w="0">
            <a:noFill/>
          </a:ln>
        </p:spPr>
      </p:pic>
      <p:sp>
        <p:nvSpPr>
          <p:cNvPr id="167" name="4 CuadroTexto"/>
          <p:cNvSpPr/>
          <p:nvPr/>
        </p:nvSpPr>
        <p:spPr>
          <a:xfrm>
            <a:off x="1643040" y="5572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esco Borr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647-16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tasis de Santa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6094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ctores de Loy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4360" y="932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JERCICIOS ESPIRI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Imagen:Exercitia Spiritualia 1ed2.jpg"/>
          <p:cNvPicPr/>
          <p:nvPr/>
        </p:nvPicPr>
        <p:blipFill>
          <a:blip r:embed="rId1"/>
          <a:stretch/>
        </p:blipFill>
        <p:spPr>
          <a:xfrm>
            <a:off x="971640" y="1341360"/>
            <a:ext cx="3057480" cy="422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572000" y="126396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5] SEGUNDO EXERCICIO ES MEDITACION DE LOS PEC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 preámbulo. El primer preámbulo será la misma compos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[58] 3º puncto. El tercero, mirar quién soy yo, diminuyéndome por exemplos: primero, quánto soy yo en comparación de todos los homb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º, mirar toda mi corrupción y fealdad corpórea; 5º, mirarme como una llaga y postema, de donde han salido tantos pecados y tantas maldades y ponzoña tan turpíss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0:03:49Z</dcterms:created>
  <dc:creator>WindowsEvolution</dc:creator>
  <dc:description/>
  <dc:language>en-US</dc:language>
  <cp:lastModifiedBy>Carlos Rojas</cp:lastModifiedBy>
  <dcterms:modified xsi:type="dcterms:W3CDTF">2009-02-16T14:32:01Z</dcterms:modified>
  <cp:revision>26</cp:revision>
  <dc:subject/>
  <dc:title>Diapositiva 1</dc:title>
</cp:coreProperties>
</file>