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5122-6F1F-465D-90C2-4C1F5ABB9F9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D27C-7600-46F6-BD41-6D6D44EBF2E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4D10-F2C7-43E9-ADD9-AA5C13AA27A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3AB7-FFF0-4DB1-9F3E-39ED8AE0BFB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09AA-BBB2-438B-8D9F-E613D651A9C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FB09-269A-4F35-98FA-D95658DF013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3C35-7BA7-400E-89F9-9C4DD096366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8AE7-B232-43EF-A998-F02ECC251CC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962B-2149-4674-A49D-EA824DBA5EC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BC98-3BFE-4884-AE12-F4A6AD0CAE9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8EE-9A22-4111-AA0C-6BA4D7C0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54B-E704-4FFD-AECC-24796E81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7C6-B622-4C2C-821C-FD3662E7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89E-DE80-4E78-9C3F-A74534EB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F87-3BE5-4663-A957-C3D0071B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B44-FC8F-431C-9C89-0AD2FB50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5B4-2BBE-4F24-83E0-44FDF221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038-D679-4EF4-A986-618FDD63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6D7-F3B0-480B-84DD-866C3066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8A7-A7DC-4851-9394-222DC14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93F-1AAC-4946-A588-005E94E0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EFE-D58E-41ED-8630-503D130D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8DB-D915-4738-997C-FA1E036B8A1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s.wikipedia.org/wiki/Archivo:Michelangelo_Caravaggio_069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8. Wölfflin y el romantic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ercepción y feal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Las Meninas"/>
          <p:cNvPicPr/>
          <p:nvPr/>
        </p:nvPicPr>
        <p:blipFill>
          <a:blip r:embed="rId1"/>
          <a:stretch/>
        </p:blipFill>
        <p:spPr>
          <a:xfrm>
            <a:off x="2286000" y="0"/>
            <a:ext cx="59500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upload.wikimedia.org/wikipedia/commons/f/fc/Francisco_de_Goya_y_Lucientes_054.jpg"/>
          <p:cNvPicPr/>
          <p:nvPr/>
        </p:nvPicPr>
        <p:blipFill>
          <a:blip r:embed="rId1"/>
          <a:stretch/>
        </p:blipFill>
        <p:spPr>
          <a:xfrm>
            <a:off x="2071800" y="990720"/>
            <a:ext cx="6926040" cy="5786280"/>
          </a:xfrm>
          <a:prstGeom prst="rect">
            <a:avLst/>
          </a:prstGeom>
          <a:ln w="0">
            <a:noFill/>
          </a:ln>
        </p:spPr>
      </p:pic>
      <p:sp>
        <p:nvSpPr>
          <p:cNvPr id="90" name="5 CuadroTexto"/>
          <p:cNvSpPr/>
          <p:nvPr/>
        </p:nvSpPr>
        <p:spPr>
          <a:xfrm>
            <a:off x="71280" y="471492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amilia de Carlos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Rectángulo"/>
          <p:cNvSpPr/>
          <p:nvPr/>
        </p:nvSpPr>
        <p:spPr>
          <a:xfrm>
            <a:off x="285840" y="2786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osc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cr.middlebury.edu/public/spanish/sp371/images/esperpento/goya_viejos.jpg"/>
          <p:cNvPicPr/>
          <p:nvPr/>
        </p:nvPicPr>
        <p:blipFill>
          <a:blip r:embed="rId1"/>
          <a:stretch/>
        </p:blipFill>
        <p:spPr>
          <a:xfrm>
            <a:off x="2714760" y="2000160"/>
            <a:ext cx="603864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s viejas comiendo s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pueb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upload.wikimedia.org/wikipedia/commons/e/ec/La_romer%C3%ADa_de_San_Isidro.jpg"/>
          <p:cNvPicPr/>
          <p:nvPr/>
        </p:nvPicPr>
        <p:blipFill>
          <a:blip r:embed="rId1"/>
          <a:stretch/>
        </p:blipFill>
        <p:spPr>
          <a:xfrm>
            <a:off x="428760" y="1643040"/>
            <a:ext cx="8258040" cy="26575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romería de San Isi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9-1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 CuadroTexto"/>
          <p:cNvSpPr/>
          <p:nvPr/>
        </p:nvSpPr>
        <p:spPr>
          <a:xfrm>
            <a:off x="4857840" y="4786200"/>
            <a:ext cx="28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ostoiev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Victor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upload.wikimedia.org/wikipedia/commons/0/0e/View_from_the_Window_at_Le_Gras%2C_Joseph_Nic%C3%A9phore_Ni%C3%A9pce%2C_uncompressed_UMN_source.png"/>
          <p:cNvPicPr/>
          <p:nvPr/>
        </p:nvPicPr>
        <p:blipFill>
          <a:blip r:embed="rId1"/>
          <a:stretch/>
        </p:blipFill>
        <p:spPr>
          <a:xfrm>
            <a:off x="2581200" y="1643040"/>
            <a:ext cx="6562800" cy="456264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28584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iép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 de Le gras 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Madonna ny.JPG"/>
          <p:cNvPicPr/>
          <p:nvPr/>
        </p:nvPicPr>
        <p:blipFill>
          <a:blip r:embed="rId1"/>
          <a:stretch/>
        </p:blipFill>
        <p:spPr>
          <a:xfrm>
            <a:off x="642960" y="500040"/>
            <a:ext cx="3333600" cy="432432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714240" y="485784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upload.wikimedia.org/wikipedia/commons/thumb/c/c5/Michelangelo_Caravaggio_069.jpg/300px-Michelangelo_Caravaggio_06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4960" y="428760"/>
            <a:ext cx="3143160" cy="478764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5286240" y="52862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av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e de la vi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Nettbutikk bilder 020.jpg"/>
          <p:cNvPicPr/>
          <p:nvPr/>
        </p:nvPicPr>
        <p:blipFill>
          <a:blip r:embed="rId1"/>
          <a:stretch/>
        </p:blipFill>
        <p:spPr>
          <a:xfrm>
            <a:off x="4357800" y="2428920"/>
            <a:ext cx="4190760" cy="27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maxandmike.com/blog/wp-content/uploads/2008/01/munchScream.jpg"/>
          <p:cNvPicPr/>
          <p:nvPr/>
        </p:nvPicPr>
        <p:blipFill>
          <a:blip r:embed="rId2"/>
          <a:stretch/>
        </p:blipFill>
        <p:spPr>
          <a:xfrm>
            <a:off x="214200" y="500040"/>
            <a:ext cx="3710160" cy="4896000"/>
          </a:xfrm>
          <a:prstGeom prst="rect">
            <a:avLst/>
          </a:prstGeom>
          <a:ln w="0">
            <a:noFill/>
          </a:ln>
        </p:spPr>
      </p:pic>
      <p:sp>
        <p:nvSpPr>
          <p:cNvPr id="115" name="5 CuadroTexto"/>
          <p:cNvSpPr/>
          <p:nvPr/>
        </p:nvSpPr>
        <p:spPr>
          <a:xfrm>
            <a:off x="35712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4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commons/f/fd/%C3%89tienne-Louis_Boull%C3%A9e_Nationalbibliothek.jpg"/>
          <p:cNvPicPr/>
          <p:nvPr/>
        </p:nvPicPr>
        <p:blipFill>
          <a:blip r:embed="rId1"/>
          <a:stretch/>
        </p:blipFill>
        <p:spPr>
          <a:xfrm>
            <a:off x="1154160" y="0"/>
            <a:ext cx="7989840" cy="53578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657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tienne-Louis Boul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yecto para la B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Archivo:Panopticon.jpg"/>
          <p:cNvPicPr/>
          <p:nvPr/>
        </p:nvPicPr>
        <p:blipFill>
          <a:blip r:embed="rId1"/>
          <a:stretch/>
        </p:blipFill>
        <p:spPr>
          <a:xfrm>
            <a:off x="5500800" y="2071800"/>
            <a:ext cx="33336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92912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eremias Bentham (1748-18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ó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Kant-He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elleza y ver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e Español y Albina, Torna atrás."/>
          <p:cNvPicPr/>
          <p:nvPr/>
        </p:nvPicPr>
        <p:blipFill>
          <a:blip r:embed="rId1"/>
          <a:stretch/>
        </p:blipFill>
        <p:spPr>
          <a:xfrm>
            <a:off x="4929120" y="1000080"/>
            <a:ext cx="357192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428920" y="5000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va de Ne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easyweb.easynet.co.uk/~ian.mccormick/lavater1792.jpg"/>
          <p:cNvPicPr/>
          <p:nvPr/>
        </p:nvPicPr>
        <p:blipFill>
          <a:blip r:embed="rId1"/>
          <a:stretch/>
        </p:blipFill>
        <p:spPr>
          <a:xfrm>
            <a:off x="500040" y="1000080"/>
            <a:ext cx="428616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finición de la mal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5500800" y="1857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siquis y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easyweb.easynet.co.uk/~ian.mccormick/lavaterrage.jpg"/>
          <p:cNvPicPr/>
          <p:nvPr/>
        </p:nvPicPr>
        <p:blipFill>
          <a:blip r:embed="rId1"/>
          <a:stretch/>
        </p:blipFill>
        <p:spPr>
          <a:xfrm>
            <a:off x="642960" y="928800"/>
            <a:ext cx="3809880" cy="505764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4857840" y="42861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clendening.kumc.edu/dc/rti/human_body_1772_lavater01.jpg"/>
          <p:cNvPicPr/>
          <p:nvPr/>
        </p:nvPicPr>
        <p:blipFill>
          <a:blip r:embed="rId1"/>
          <a:stretch/>
        </p:blipFill>
        <p:spPr>
          <a:xfrm>
            <a:off x="214200" y="0"/>
            <a:ext cx="4500720" cy="675468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udio de la fisi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shoeblogs.com/consolation/wordpress/wp-content/uploads/2007/05/louisxiv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3424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7000920" y="59342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yacinthe Riga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Luis X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59-17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fuenterrebollo.com/faqs-numismatica/Goya/carlos3-cazador-701.jpg"/>
          <p:cNvPicPr/>
          <p:nvPr/>
        </p:nvPicPr>
        <p:blipFill>
          <a:blip r:embed="rId1"/>
          <a:stretch/>
        </p:blipFill>
        <p:spPr>
          <a:xfrm>
            <a:off x="4643280" y="206280"/>
            <a:ext cx="3781440" cy="656748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285840" y="37148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rlos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1214280" y="19288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3:51:35Z</dcterms:created>
  <dc:creator>Carlos Rojas</dc:creator>
  <dc:description/>
  <dc:language>en-US</dc:language>
  <cp:lastModifiedBy>Usuario</cp:lastModifiedBy>
  <dcterms:modified xsi:type="dcterms:W3CDTF">2009-02-26T07:51:37Z</dcterms:modified>
  <cp:revision>29</cp:revision>
  <dc:subject/>
  <dc:title>Diapositiva 1</dc:title>
</cp:coreProperties>
</file>