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1809-5204-425D-8F93-F5BCC251F89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D882-0368-42DD-A362-528CDB26244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AE5-ECAA-4995-B0DD-A8260561C98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21A0-09BB-4789-B698-497608DD324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C4C7-C6A2-406A-8E76-3A9ECA87EEF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3C42-A912-490E-AF5F-15CD3B9825D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76C1-5C51-4B74-9B2C-B850F9EF869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F783-EAF0-4C17-9973-14DB3AE96FFB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7C0F-09C1-449F-B105-9F6B0E9DBD0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5C53-5B56-4CF2-8E3A-FB907B517EC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543-F067-4E81-9CF0-0DE38177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68C-766F-4A8B-9E62-7EB42C4E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7C5-FDCA-4AC5-8565-B6E2B0A6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C2A-3814-4FE3-905B-807E3B8B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C68-CE0F-42DD-8A38-4FA25240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8D1-E9F8-4A53-A6E2-E1B0C365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EC4-0A0A-4387-92E6-29AD3173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92B-D1BB-441D-B1B2-AD51B7CB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78A-FFC9-4179-901F-28091A79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A03-1766-4DE2-8860-D9AB44F8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CE2-B3E3-4AF3-AC65-998D4819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2A2-2476-4EA8-8C48-A0E89C6A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598D-B2E7-42F1-9666-FA987E18BE9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es.wikipedia.org/wiki/Archivo:Michelangelo_Caravaggio_069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8. Wölfflin y el romantic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ercepción y feal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Las Meninas"/>
          <p:cNvPicPr/>
          <p:nvPr/>
        </p:nvPicPr>
        <p:blipFill>
          <a:blip r:embed="rId1"/>
          <a:stretch/>
        </p:blipFill>
        <p:spPr>
          <a:xfrm>
            <a:off x="2286000" y="0"/>
            <a:ext cx="59500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ttp://upload.wikimedia.org/wikipedia/commons/f/fc/Francisco_de_Goya_y_Lucientes_054.jpg"/>
          <p:cNvPicPr/>
          <p:nvPr/>
        </p:nvPicPr>
        <p:blipFill>
          <a:blip r:embed="rId1"/>
          <a:stretch/>
        </p:blipFill>
        <p:spPr>
          <a:xfrm>
            <a:off x="2071800" y="990720"/>
            <a:ext cx="6926040" cy="5786280"/>
          </a:xfrm>
          <a:prstGeom prst="rect">
            <a:avLst/>
          </a:prstGeom>
          <a:ln w="0">
            <a:noFill/>
          </a:ln>
        </p:spPr>
      </p:pic>
      <p:sp>
        <p:nvSpPr>
          <p:cNvPr id="90" name="5 CuadroTexto"/>
          <p:cNvSpPr/>
          <p:nvPr/>
        </p:nvSpPr>
        <p:spPr>
          <a:xfrm>
            <a:off x="71280" y="471492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amilia de Carlos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Rectángulo"/>
          <p:cNvSpPr/>
          <p:nvPr/>
        </p:nvSpPr>
        <p:spPr>
          <a:xfrm>
            <a:off x="285840" y="2786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osc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cr.middlebury.edu/public/spanish/sp371/images/esperpento/goya_viejos.jpg"/>
          <p:cNvPicPr/>
          <p:nvPr/>
        </p:nvPicPr>
        <p:blipFill>
          <a:blip r:embed="rId1"/>
          <a:stretch/>
        </p:blipFill>
        <p:spPr>
          <a:xfrm>
            <a:off x="2714760" y="2000160"/>
            <a:ext cx="603864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s viejas comiendo s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El pueb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upload.wikimedia.org/wikipedia/commons/e/ec/La_romer%C3%ADa_de_San_Isidro.jpg"/>
          <p:cNvPicPr/>
          <p:nvPr/>
        </p:nvPicPr>
        <p:blipFill>
          <a:blip r:embed="rId1"/>
          <a:stretch/>
        </p:blipFill>
        <p:spPr>
          <a:xfrm>
            <a:off x="428760" y="1643040"/>
            <a:ext cx="8258040" cy="265752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42876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oya (1746-18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romería de San Isi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9-1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 CuadroTexto"/>
          <p:cNvSpPr/>
          <p:nvPr/>
        </p:nvSpPr>
        <p:spPr>
          <a:xfrm>
            <a:off x="4857840" y="4786200"/>
            <a:ext cx="28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ostoiev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Victor H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upload.wikimedia.org/wikipedia/commons/0/0e/View_from_the_Window_at_Le_Gras%2C_Joseph_Nic%C3%A9phore_Ni%C3%A9pce%2C_uncompressed_UMN_source.png"/>
          <p:cNvPicPr/>
          <p:nvPr/>
        </p:nvPicPr>
        <p:blipFill>
          <a:blip r:embed="rId1"/>
          <a:stretch/>
        </p:blipFill>
        <p:spPr>
          <a:xfrm>
            <a:off x="2581200" y="1643040"/>
            <a:ext cx="6562800" cy="456264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28584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iép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 de Le gras 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ve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Madonna ny.JPG"/>
          <p:cNvPicPr/>
          <p:nvPr/>
        </p:nvPicPr>
        <p:blipFill>
          <a:blip r:embed="rId1"/>
          <a:stretch/>
        </p:blipFill>
        <p:spPr>
          <a:xfrm>
            <a:off x="642960" y="500040"/>
            <a:ext cx="3333600" cy="4324320"/>
          </a:xfrm>
          <a:prstGeom prst="rect">
            <a:avLst/>
          </a:prstGeom>
          <a:ln w="0">
            <a:noFill/>
          </a:ln>
        </p:spPr>
      </p:pic>
      <p:sp>
        <p:nvSpPr>
          <p:cNvPr id="108" name="4 CuadroTexto"/>
          <p:cNvSpPr/>
          <p:nvPr/>
        </p:nvSpPr>
        <p:spPr>
          <a:xfrm>
            <a:off x="714240" y="485784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ad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upload.wikimedia.org/wikipedia/commons/thumb/c/c5/Michelangelo_Caravaggio_069.jpg/300px-Michelangelo_Caravaggio_06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4960" y="428760"/>
            <a:ext cx="3143160" cy="478764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5286240" y="52862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rav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erte de la vi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Nettbutikk bilder 020.jpg"/>
          <p:cNvPicPr/>
          <p:nvPr/>
        </p:nvPicPr>
        <p:blipFill>
          <a:blip r:embed="rId1"/>
          <a:stretch/>
        </p:blipFill>
        <p:spPr>
          <a:xfrm>
            <a:off x="4357800" y="2428920"/>
            <a:ext cx="4190760" cy="27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maxandmike.com/blog/wp-content/uploads/2008/01/munchScream.jpg"/>
          <p:cNvPicPr/>
          <p:nvPr/>
        </p:nvPicPr>
        <p:blipFill>
          <a:blip r:embed="rId2"/>
          <a:stretch/>
        </p:blipFill>
        <p:spPr>
          <a:xfrm>
            <a:off x="214200" y="500040"/>
            <a:ext cx="3710160" cy="4896000"/>
          </a:xfrm>
          <a:prstGeom prst="rect">
            <a:avLst/>
          </a:prstGeom>
          <a:ln w="0">
            <a:noFill/>
          </a:ln>
        </p:spPr>
      </p:pic>
      <p:sp>
        <p:nvSpPr>
          <p:cNvPr id="115" name="5 CuadroTexto"/>
          <p:cNvSpPr/>
          <p:nvPr/>
        </p:nvSpPr>
        <p:spPr>
          <a:xfrm>
            <a:off x="35712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ward Munch(1863-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upload.wikimedia.org/wikipedia/commons/1/11/Dominique_Ingres_-_Le_Bain_turc.jpg"/>
          <p:cNvPicPr/>
          <p:nvPr/>
        </p:nvPicPr>
        <p:blipFill>
          <a:blip r:embed="rId1"/>
          <a:stretch/>
        </p:blipFill>
        <p:spPr>
          <a:xfrm>
            <a:off x="3143160" y="71424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714240" y="4857840"/>
            <a:ext cx="21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s (1780-18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baño tu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857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LES DEMOISELLES D’AVIGNON 1907"/>
          <p:cNvPicPr/>
          <p:nvPr/>
        </p:nvPicPr>
        <p:blipFill>
          <a:blip r:embed="rId1"/>
          <a:stretch/>
        </p:blipFill>
        <p:spPr>
          <a:xfrm>
            <a:off x="3214800" y="785880"/>
            <a:ext cx="5314680" cy="5600520"/>
          </a:xfrm>
          <a:prstGeom prst="rect">
            <a:avLst/>
          </a:prstGeom>
          <a:ln w="0">
            <a:noFill/>
          </a:ln>
        </p:spPr>
      </p:pic>
      <p:sp>
        <p:nvSpPr>
          <p:cNvPr id="124" name="4 CuadroTexto"/>
          <p:cNvSpPr/>
          <p:nvPr/>
        </p:nvSpPr>
        <p:spPr>
          <a:xfrm>
            <a:off x="285840" y="371484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es daimois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’Avi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commons/f/fd/%C3%89tienne-Louis_Boull%C3%A9e_Nationalbibliothek.jpg"/>
          <p:cNvPicPr/>
          <p:nvPr/>
        </p:nvPicPr>
        <p:blipFill>
          <a:blip r:embed="rId1"/>
          <a:stretch/>
        </p:blipFill>
        <p:spPr>
          <a:xfrm>
            <a:off x="1154160" y="0"/>
            <a:ext cx="7989840" cy="53578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285840" y="5657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tienne-Louis Boul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yecto para la B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Archivo:Panopticon.jpg"/>
          <p:cNvPicPr/>
          <p:nvPr/>
        </p:nvPicPr>
        <p:blipFill>
          <a:blip r:embed="rId1"/>
          <a:stretch/>
        </p:blipFill>
        <p:spPr>
          <a:xfrm>
            <a:off x="5500800" y="2071800"/>
            <a:ext cx="33336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714240" y="492912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eremias Bentham (1748-18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nóp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Kant-He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elleza y ver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e Español y Albina, Torna atrás."/>
          <p:cNvPicPr/>
          <p:nvPr/>
        </p:nvPicPr>
        <p:blipFill>
          <a:blip r:embed="rId1"/>
          <a:stretch/>
        </p:blipFill>
        <p:spPr>
          <a:xfrm>
            <a:off x="4929120" y="1000080"/>
            <a:ext cx="357192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428920" y="5000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va de Ne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easyweb.easynet.co.uk/~ian.mccormick/lavater1792.jpg"/>
          <p:cNvPicPr/>
          <p:nvPr/>
        </p:nvPicPr>
        <p:blipFill>
          <a:blip r:embed="rId1"/>
          <a:stretch/>
        </p:blipFill>
        <p:spPr>
          <a:xfrm>
            <a:off x="500040" y="1000080"/>
            <a:ext cx="428616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5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finición de la mal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5500800" y="18572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siquis y 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easyweb.easynet.co.uk/~ian.mccormick/lavaterrage.jpg"/>
          <p:cNvPicPr/>
          <p:nvPr/>
        </p:nvPicPr>
        <p:blipFill>
          <a:blip r:embed="rId1"/>
          <a:stretch/>
        </p:blipFill>
        <p:spPr>
          <a:xfrm>
            <a:off x="642960" y="928800"/>
            <a:ext cx="3809880" cy="505764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4857840" y="42861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clendening.kumc.edu/dc/rti/human_body_1772_lavater01.jpg"/>
          <p:cNvPicPr/>
          <p:nvPr/>
        </p:nvPicPr>
        <p:blipFill>
          <a:blip r:embed="rId1"/>
          <a:stretch/>
        </p:blipFill>
        <p:spPr>
          <a:xfrm>
            <a:off x="214200" y="0"/>
            <a:ext cx="4500720" cy="6754680"/>
          </a:xfrm>
          <a:prstGeom prst="rect">
            <a:avLst/>
          </a:prstGeom>
          <a:ln w="0">
            <a:noFill/>
          </a:ln>
        </p:spPr>
      </p:pic>
      <p:sp>
        <p:nvSpPr>
          <p:cNvPr id="74" name="4 CuadroTexto"/>
          <p:cNvSpPr/>
          <p:nvPr/>
        </p:nvSpPr>
        <p:spPr>
          <a:xfrm>
            <a:off x="4857840" y="4286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.C. Lav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udio de la fisi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41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shoeblogs.com/consolation/wordpress/wp-content/uploads/2007/05/louisxiv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3424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7000920" y="593424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yacinthe Riga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rato de Luis X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59-17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fuenterrebollo.com/faqs-numismatica/Goya/carlos3-cazador-701.jpg"/>
          <p:cNvPicPr/>
          <p:nvPr/>
        </p:nvPicPr>
        <p:blipFill>
          <a:blip r:embed="rId1"/>
          <a:stretch/>
        </p:blipFill>
        <p:spPr>
          <a:xfrm>
            <a:off x="4643280" y="206280"/>
            <a:ext cx="3781440" cy="656748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285840" y="37148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rlos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1214280" y="19288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3:51:35Z</dcterms:created>
  <dc:creator>Carlos Rojas</dc:creator>
  <dc:description/>
  <dc:language>en-US</dc:language>
  <cp:lastModifiedBy>Usuario</cp:lastModifiedBy>
  <dcterms:modified xsi:type="dcterms:W3CDTF">2009-02-26T07:51:37Z</dcterms:modified>
  <cp:revision>29</cp:revision>
  <dc:subject/>
  <dc:title>Diapositiva 1</dc:title>
</cp:coreProperties>
</file>