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B426-B9A6-47FE-B596-A82E7794E56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C96C-0A55-466A-A3BC-E83DAF0F7C3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2787-ADF6-421D-894F-A81F7C86DD7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3EF9-ACFE-4478-8C86-D03E74DDE2A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C2B7-0876-4F50-957E-6838A776629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5E10-B911-4252-9258-4310590C972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AE9C-7AFD-4B81-A02C-ED70E2A71C7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B3A3-7FED-43FC-86FB-86443C0179A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C27F-14EF-42BB-A429-EF19CC17765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528A-B9B6-4718-886A-AE134C4DF70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65F-9351-4F6D-B2D3-A3997A09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FE8-42D4-460C-B366-E7021B38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896-E0FE-4D6F-8D14-2B1CF04C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347-F1D5-4C1F-8321-CAC74BF1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DAE-2925-40D0-A99B-A0A842D5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B8C-F612-44DA-80EC-A029E610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B46-F6BA-4BF9-9F52-D7A679E6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2C2-ABED-433B-811E-2941D06C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A9C-0E91-4F4D-869A-7040809E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018-7E5C-40C4-861E-9B2F6EE1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762-782F-40BB-8AD6-3D9E98EE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DDC-FC30-432C-B939-DB4AC97B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13D3-0CDB-4814-BD6D-857AFC07E4F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es.wikipedia.org/wiki/Archivo:Michelangelo_Caravaggio_069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8. Wölfflin y el romantic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ercepción y feal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Las Meninas"/>
          <p:cNvPicPr/>
          <p:nvPr/>
        </p:nvPicPr>
        <p:blipFill>
          <a:blip r:embed="rId1"/>
          <a:stretch/>
        </p:blipFill>
        <p:spPr>
          <a:xfrm>
            <a:off x="2286000" y="0"/>
            <a:ext cx="59500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ttp://upload.wikimedia.org/wikipedia/commons/f/fc/Francisco_de_Goya_y_Lucientes_054.jpg"/>
          <p:cNvPicPr/>
          <p:nvPr/>
        </p:nvPicPr>
        <p:blipFill>
          <a:blip r:embed="rId1"/>
          <a:stretch/>
        </p:blipFill>
        <p:spPr>
          <a:xfrm>
            <a:off x="2071800" y="990720"/>
            <a:ext cx="6926040" cy="5786280"/>
          </a:xfrm>
          <a:prstGeom prst="rect">
            <a:avLst/>
          </a:prstGeom>
          <a:ln w="0">
            <a:noFill/>
          </a:ln>
        </p:spPr>
      </p:pic>
      <p:sp>
        <p:nvSpPr>
          <p:cNvPr id="90" name="5 CuadroTexto"/>
          <p:cNvSpPr/>
          <p:nvPr/>
        </p:nvSpPr>
        <p:spPr>
          <a:xfrm>
            <a:off x="71280" y="471492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amilia de Carlos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Rectángulo"/>
          <p:cNvSpPr/>
          <p:nvPr/>
        </p:nvSpPr>
        <p:spPr>
          <a:xfrm>
            <a:off x="285840" y="2786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osc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cr.middlebury.edu/public/spanish/sp371/images/esperpento/goya_viejos.jpg"/>
          <p:cNvPicPr/>
          <p:nvPr/>
        </p:nvPicPr>
        <p:blipFill>
          <a:blip r:embed="rId1"/>
          <a:stretch/>
        </p:blipFill>
        <p:spPr>
          <a:xfrm>
            <a:off x="2714760" y="2000160"/>
            <a:ext cx="603864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s viejas comiendo s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pueb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upload.wikimedia.org/wikipedia/commons/e/ec/La_romer%C3%ADa_de_San_Isidro.jpg"/>
          <p:cNvPicPr/>
          <p:nvPr/>
        </p:nvPicPr>
        <p:blipFill>
          <a:blip r:embed="rId1"/>
          <a:stretch/>
        </p:blipFill>
        <p:spPr>
          <a:xfrm>
            <a:off x="428760" y="1643040"/>
            <a:ext cx="8258040" cy="265752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romería de San Isi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9-1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 CuadroTexto"/>
          <p:cNvSpPr/>
          <p:nvPr/>
        </p:nvSpPr>
        <p:spPr>
          <a:xfrm>
            <a:off x="4857840" y="4786200"/>
            <a:ext cx="28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ostoiev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Victor H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upload.wikimedia.org/wikipedia/commons/0/0e/View_from_the_Window_at_Le_Gras%2C_Joseph_Nic%C3%A9phore_Ni%C3%A9pce%2C_uncompressed_UMN_source.png"/>
          <p:cNvPicPr/>
          <p:nvPr/>
        </p:nvPicPr>
        <p:blipFill>
          <a:blip r:embed="rId1"/>
          <a:stretch/>
        </p:blipFill>
        <p:spPr>
          <a:xfrm>
            <a:off x="2581200" y="1643040"/>
            <a:ext cx="6562800" cy="456264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28584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iép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 de Le gras 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ve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Madonna ny.JPG"/>
          <p:cNvPicPr/>
          <p:nvPr/>
        </p:nvPicPr>
        <p:blipFill>
          <a:blip r:embed="rId1"/>
          <a:stretch/>
        </p:blipFill>
        <p:spPr>
          <a:xfrm>
            <a:off x="642960" y="500040"/>
            <a:ext cx="3333600" cy="432432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714240" y="485784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ad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upload.wikimedia.org/wikipedia/commons/thumb/c/c5/Michelangelo_Caravaggio_069.jpg/300px-Michelangelo_Caravaggio_06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4960" y="428760"/>
            <a:ext cx="3143160" cy="478764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5286240" y="52862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rav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e de la vi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Nettbutikk bilder 020.jpg"/>
          <p:cNvPicPr/>
          <p:nvPr/>
        </p:nvPicPr>
        <p:blipFill>
          <a:blip r:embed="rId1"/>
          <a:stretch/>
        </p:blipFill>
        <p:spPr>
          <a:xfrm>
            <a:off x="4357800" y="2428920"/>
            <a:ext cx="4190760" cy="27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maxandmike.com/blog/wp-content/uploads/2008/01/munchScream.jpg"/>
          <p:cNvPicPr/>
          <p:nvPr/>
        </p:nvPicPr>
        <p:blipFill>
          <a:blip r:embed="rId2"/>
          <a:stretch/>
        </p:blipFill>
        <p:spPr>
          <a:xfrm>
            <a:off x="214200" y="500040"/>
            <a:ext cx="3710160" cy="4896000"/>
          </a:xfrm>
          <a:prstGeom prst="rect">
            <a:avLst/>
          </a:prstGeom>
          <a:ln w="0">
            <a:noFill/>
          </a:ln>
        </p:spPr>
      </p:pic>
      <p:sp>
        <p:nvSpPr>
          <p:cNvPr id="115" name="5 CuadroTexto"/>
          <p:cNvSpPr/>
          <p:nvPr/>
        </p:nvSpPr>
        <p:spPr>
          <a:xfrm>
            <a:off x="35712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4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commons/f/fd/%C3%89tienne-Louis_Boull%C3%A9e_Nationalbibliothek.jpg"/>
          <p:cNvPicPr/>
          <p:nvPr/>
        </p:nvPicPr>
        <p:blipFill>
          <a:blip r:embed="rId1"/>
          <a:stretch/>
        </p:blipFill>
        <p:spPr>
          <a:xfrm>
            <a:off x="1154160" y="0"/>
            <a:ext cx="7989840" cy="53578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657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tienne-Louis Boul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yecto para la B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Archivo:Panopticon.jpg"/>
          <p:cNvPicPr/>
          <p:nvPr/>
        </p:nvPicPr>
        <p:blipFill>
          <a:blip r:embed="rId1"/>
          <a:stretch/>
        </p:blipFill>
        <p:spPr>
          <a:xfrm>
            <a:off x="5500800" y="2071800"/>
            <a:ext cx="33336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92912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eremias Bentham (1748-18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nóp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Kant-He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elleza y ver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e Español y Albina, Torna atrás."/>
          <p:cNvPicPr/>
          <p:nvPr/>
        </p:nvPicPr>
        <p:blipFill>
          <a:blip r:embed="rId1"/>
          <a:stretch/>
        </p:blipFill>
        <p:spPr>
          <a:xfrm>
            <a:off x="4929120" y="1000080"/>
            <a:ext cx="357192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428920" y="5000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va de Ne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easyweb.easynet.co.uk/~ian.mccormick/lavater1792.jpg"/>
          <p:cNvPicPr/>
          <p:nvPr/>
        </p:nvPicPr>
        <p:blipFill>
          <a:blip r:embed="rId1"/>
          <a:stretch/>
        </p:blipFill>
        <p:spPr>
          <a:xfrm>
            <a:off x="500040" y="1000080"/>
            <a:ext cx="428616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finición de la mal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5500800" y="18572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siquis y 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easyweb.easynet.co.uk/~ian.mccormick/lavaterrage.jpg"/>
          <p:cNvPicPr/>
          <p:nvPr/>
        </p:nvPicPr>
        <p:blipFill>
          <a:blip r:embed="rId1"/>
          <a:stretch/>
        </p:blipFill>
        <p:spPr>
          <a:xfrm>
            <a:off x="642960" y="928800"/>
            <a:ext cx="3809880" cy="505764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4857840" y="42861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clendening.kumc.edu/dc/rti/human_body_1772_lavater01.jpg"/>
          <p:cNvPicPr/>
          <p:nvPr/>
        </p:nvPicPr>
        <p:blipFill>
          <a:blip r:embed="rId1"/>
          <a:stretch/>
        </p:blipFill>
        <p:spPr>
          <a:xfrm>
            <a:off x="214200" y="0"/>
            <a:ext cx="4500720" cy="675468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udio de la fisi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shoeblogs.com/consolation/wordpress/wp-content/uploads/2007/05/louisxiv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3424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7000920" y="593424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yacinthe Riga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Luis X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59-17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fuenterrebollo.com/faqs-numismatica/Goya/carlos3-cazador-701.jpg"/>
          <p:cNvPicPr/>
          <p:nvPr/>
        </p:nvPicPr>
        <p:blipFill>
          <a:blip r:embed="rId1"/>
          <a:stretch/>
        </p:blipFill>
        <p:spPr>
          <a:xfrm>
            <a:off x="4643280" y="206280"/>
            <a:ext cx="3781440" cy="656748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285840" y="37148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rlos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1214280" y="19288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3:51:35Z</dcterms:created>
  <dc:creator>Carlos Rojas</dc:creator>
  <dc:description/>
  <dc:language>en-US</dc:language>
  <cp:lastModifiedBy>Usuario</cp:lastModifiedBy>
  <dcterms:modified xsi:type="dcterms:W3CDTF">2009-02-26T07:51:37Z</dcterms:modified>
  <cp:revision>29</cp:revision>
  <dc:subject/>
  <dc:title>Diapositiva 1</dc:title>
</cp:coreProperties>
</file>